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2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A880-F861-4D1E-95E4-22D2DFBF6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4494-EB36-470D-BF40-2D191310E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24C9-2695-4C2C-A31F-214CEDF66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28EB-094C-4D11-BD7D-7388E8AB2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749B-443B-4690-BB18-F4D26B093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3909-D473-4FA6-87FF-E3558BEA6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6C69-9C57-4214-A1CE-759A31EFD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F8C3-E091-45C2-AE3E-D0D4A1BACA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DBB8-3B54-406E-A079-520312F15F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337F-7F20-44FB-877B-518E405D4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8B1F-0152-4734-9027-1480A3B05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38B2-283B-4649-A2FB-45B765555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BB8E-FF9A-4DFB-AFF2-411B782F2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F584-0BC6-456F-97F2-440446922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3A2B-B6E7-417E-9A9A-FFC85F86F6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B3B8-3FD1-4EDD-86CA-F118D5F6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776E-F669-4BAA-A88D-6C88B047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F953-6EAD-47E1-9863-7E61AF49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4CAA-ACFA-4380-A1F2-DBB57A6C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7851-9962-4ED4-AE52-A0605E18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520C-DBCB-4F00-B521-6AB3C12F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01EA-05CD-4051-913C-C583EF5E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53D6-AE78-4D98-8834-DFC6B8D4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4476-4672-467D-9D1B-8F5288FF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56AC-70CB-4F15-B5AE-EA89D421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DA5E-A7D1-45FB-BAFB-AFEA521A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DDBA-6EB2-4EA1-A1A6-327EE9DE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22E1-8BD9-442E-A834-5984DCCA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7278-6CDA-41AF-BD92-7741DC66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18F3-6F20-4CC8-843A-258C72FF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ED90-0E71-4550-B7FC-EFF895AA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65AA-B148-4CC7-A9BE-E0380E4D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AB1E5-7232-42A4-958C-897A1B22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A93C2B-918E-4684-B644-BD72AA2C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385BAC-1680-4404-9CDF-CEE5A3E7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F8B78-3FD1-4878-9DBA-2CE7E677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80A03-F428-43A7-ADF2-4C439266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39AC-26D0-4AF9-8720-2F7B052E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0CF34-FC7C-42B4-9B71-4CC437EB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DA8893-6A03-4D72-A796-50A3220C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3C050-BBE6-4FFD-AFDF-E7E6CBE1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808F1B-AEA7-4568-AE14-6EF1FBFB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63F138-4758-4014-AB08-4F04C198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C378EA-54B7-416E-A3F7-707DECDB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65F7F0-3172-4C4A-803E-A6C9AD77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F3A3B-4A3D-4DDB-9C43-0BAF6DEC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B2A41-964E-4344-A3EE-16B9A944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E9ED7-4B8D-4CDB-BCA5-E5CA0187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8FA2-4199-4657-892C-9A27BF3A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2F606-2632-4660-9D61-7B6297DB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F3F0F-AE83-4853-A301-65574506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E976B-57FC-4F22-84D5-3E90A5A0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C26CF-C732-4106-9718-766FA66A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C0476-8A42-432C-AB9B-AC3F151C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1951A-A6D6-4925-A1A2-59C733DD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A6248-041F-43EC-8F2E-03EDFE0E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C8D52-D0A1-4278-B5D7-9BD52DC0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C335D-047F-4A5C-A3C7-0E46D58A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29D4F1-BB7D-46C4-A462-B45780D1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5831-D313-46CA-B80E-B2D0C1D7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81EA11-CABC-45F9-BEAE-586814DA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7B6788-ED75-4E12-9ED8-80C652AE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A3EB2A-1682-4A9B-BDAA-FA3C7367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266CE7-F341-4883-882F-13F1EBBE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25906D-85DC-41CB-A0B6-A8979730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08E028-2E79-4444-9F0E-31D75109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41E84E-1188-4B11-AC7F-AA810646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8E81AA-643F-40AC-8675-8BE7E7AB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387C21-170F-46DE-B04E-984E71EE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2A26D1-712E-4533-88EC-FFAF9CE7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A3E-D954-4129-8137-40D63ACE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4B2754-95B0-4A9A-90D4-D3BDAFB3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8C03DD-5BD6-46C0-AF48-578EF260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C9DA1D-2886-4F62-A326-A4E2B3F5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ED1C54-D8D9-48AE-9638-ECB797C4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768EE5-FB36-4D58-9002-88CE83CE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AD7BA4-BE2E-4772-A608-7B692D6E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E624AC-6AC0-4329-8428-1AA519DD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C25836-029F-4E6D-937B-7B5FE443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98DD24-C998-4F09-B420-1CCED762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7DE429-A2E5-4486-8718-35E50849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CFF8-118C-48D7-BAA4-BECEE678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832761-3AFF-4C0C-92A0-BC897D10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DD1DEC-6D99-4ECC-8D70-C59EAEAF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DF1FB9-12C8-4599-A07A-5CAECA71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4875-5C5F-4EF6-B843-4C4E2DAB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8AB9-3027-44DE-AD1F-9637B36F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F881-98B5-47FE-8B77-C9A6ADE1AAC9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F8FF-A680-43E0-9DA4-EE80AE2E4D7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6659640" y="333360"/>
            <a:ext cx="1904760" cy="69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A-Projects\2011\ViPi\Deliverables\WP8\Logo\vipi_logo_def_CMYK_2-facebook.jpg"/>
          <p:cNvPicPr/>
          <p:nvPr/>
        </p:nvPicPr>
        <p:blipFill>
          <a:blip r:embed="rId3"/>
          <a:stretch/>
        </p:blipFill>
        <p:spPr>
          <a:xfrm>
            <a:off x="3203640" y="1052640"/>
            <a:ext cx="3848040" cy="38480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E092-CA50-4665-934F-708527CEF9A5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15E1-2B4B-4AB8-948D-F4A9A4833D4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46160" y="6408720"/>
            <a:ext cx="1041120" cy="379440"/>
          </a:xfrm>
          <a:prstGeom prst="rect">
            <a:avLst/>
          </a:prstGeom>
          <a:ln w="0">
            <a:noFill/>
          </a:ln>
        </p:spPr>
      </p:pic>
      <p:sp>
        <p:nvSpPr>
          <p:cNvPr id="113" name="Subtitle 2"/>
          <p:cNvSpPr/>
          <p:nvPr/>
        </p:nvSpPr>
        <p:spPr>
          <a:xfrm>
            <a:off x="1547640" y="6497640"/>
            <a:ext cx="6172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entury Schoolbook"/>
              </a:rPr>
              <a:t>nd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 ViPi Workshop; 02/05/2012, Vilnius, Lithu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A-Projects\2011\ViPi\Deliverables\WP8\Logo\vipi_logo_def_CMYK_2-facebook.jpg"/>
          <p:cNvPicPr/>
          <p:nvPr/>
        </p:nvPicPr>
        <p:blipFill>
          <a:blip r:embed="rId3"/>
          <a:srcRect l="0" t="25147" r="0" b="26205"/>
          <a:stretch/>
        </p:blipFill>
        <p:spPr>
          <a:xfrm>
            <a:off x="7451640" y="476280"/>
            <a:ext cx="1220760" cy="593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8432-9EB7-4755-B561-BDEB5BD1D9D9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0057-C9CE-4D5E-981E-B49401867B4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B619-68F5-437E-8C11-68D6EB39AA1E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6928-92A7-4ABD-959D-1E5B38B7485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201B-4645-4319-8DD6-1BC3F83B49DD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1661-A14A-45EB-ABA1-47EA88806FF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2C93-D317-4CC2-9748-3080972E1C90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CAA7-7E6E-411D-BAAD-34B11100DAF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68000" y="4005000"/>
            <a:ext cx="6172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75f6d"/>
                </a:solidFill>
                <a:latin typeface="Century Schoolbook"/>
              </a:rPr>
              <a:t>SEMANTIC CONTENT MANAGEMENT ENHANCEMENTS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2285640" y="4941360"/>
            <a:ext cx="61722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75f6d"/>
                </a:solidFill>
                <a:latin typeface="Century Schoolbook"/>
              </a:rPr>
              <a:t>George Milis, G.M EuroCy Innovations Ltd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75f6d"/>
                </a:solidFill>
                <a:latin typeface="Century Schoolbook"/>
              </a:rPr>
              <a:t>2</a:t>
            </a:r>
            <a:r>
              <a:rPr b="1" lang="en-GB" sz="1600" spc="-1" strike="noStrike" baseline="30000">
                <a:solidFill>
                  <a:srgbClr val="575f6d"/>
                </a:solidFill>
                <a:latin typeface="Century Schoolbook"/>
              </a:rPr>
              <a:t>nd</a:t>
            </a:r>
            <a:r>
              <a:rPr b="1" lang="en-GB" sz="1600" spc="-1" strike="noStrike">
                <a:solidFill>
                  <a:srgbClr val="575f6d"/>
                </a:solidFill>
                <a:latin typeface="Century Schoolbook"/>
              </a:rPr>
              <a:t> ViPi Workshop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75f6d"/>
                </a:solidFill>
                <a:latin typeface="Century Schoolbook"/>
              </a:rPr>
              <a:t>(02/05/2012, Vilnius, Lithuania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75f6d"/>
                </a:solidFill>
                <a:latin typeface="Century Schoolbook"/>
              </a:rPr>
              <a:t>www.vipi-project.eu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75f6d"/>
                </a:solidFill>
                <a:latin typeface="Century Schoolbook"/>
              </a:rPr>
              <a:t>511792-LLP-1-2010-1-GR-KA3-KA3NW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Slide Number Placeholder 6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D9C1-1B09-4868-BD8D-C5310EB9495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E </a:t>
            </a:r>
            <a:r>
              <a:rPr b="0" lang="el-GR" sz="3000" spc="-1" strike="noStrike">
                <a:solidFill>
                  <a:srgbClr val="575f6d"/>
                </a:solidFill>
                <a:latin typeface="Century Schoolbook"/>
              </a:rPr>
              <a:t>#</a:t>
            </a: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4 – AT THE BOOKSTORE IN 201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gnacijus finds in his cards that Silvijus has a visual impairment, that he prefers to read books in English and that he is using some assistive technology with his keyboard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o he goes directly on the proper shelf and brings two books that fit exactly what Silvijus needs and are also accessible for hi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6" descr="AJ_Books.png"/>
          <p:cNvPicPr/>
          <p:nvPr/>
        </p:nvPicPr>
        <p:blipFill>
          <a:blip r:embed="rId1"/>
          <a:stretch/>
        </p:blipFill>
        <p:spPr>
          <a:xfrm>
            <a:off x="3635280" y="4437000"/>
            <a:ext cx="2381400" cy="21146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bpcomp_LibraryCheckout_approved.png"/>
          <p:cNvPicPr/>
          <p:nvPr/>
        </p:nvPicPr>
        <p:blipFill>
          <a:blip r:embed="rId2"/>
          <a:stretch/>
        </p:blipFill>
        <p:spPr>
          <a:xfrm>
            <a:off x="6227640" y="3933720"/>
            <a:ext cx="238140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STORY OF THE WEB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434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nitially the Web was full of static websites and interlinked pages/documents. Nice!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eople were searching using keywords and were provided with lots of results through which they were (sometimes) able to find exactly what they wanted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ately, the search engines also became smarter and helped people by learning of links…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ut then social networking sites came, and blogs and wikis and collaboration tools and…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ey allowed anyone to write and publish content on the Interne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e Web 2.0 era…Very nice!!! bu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Too much information and too difficult to search withi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C320-FA2E-4AE4-A5FE-BD40E5AA434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STORY OF THE WEB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finally the Web 3.0 era started where ICT scientists realized that this huge repository of content should somehow be organized and tagged semanticall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Semantic Web! The content entities/objects (text, images, videos, chats, emails, blog posts, etc) is not thrown in the repository directly, but is first described with pre-defined vocabulari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[Subject --Property -- Object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ven better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BBFF-8177-4ADB-8679-D7022EF2C25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IPI UTILIZES THE SEMANTIC WEB CONCEP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iPi large repository of Learning Objects (LO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l LOs are semantically tagged with predefined vocabular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[LOid1 – is of type - video]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[LOid1 – is compatible with impairment - hearing]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t the same time, all users’ profiles are enriched with semantic tag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[User1 – has impairment - hearing]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[User1 – prefers content of type – image/video/text]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earching through the repository and finding the proper content becomes much easier because of the stored meaning!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FD4C-BA8D-4F15-9BBA-EC99E3F630C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ANK YOU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2781360"/>
            <a:ext cx="746748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There are no disabled people…just societies not able enough to accommodate their people needs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531E-9B0A-46D0-9EB5-200DA9E3996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STORY OUTLIN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4AE4-3BAE-4FF5-99FE-836E7C83025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7283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 story is about a bookstore in Vilnius that was selling books of different topics and from different writ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Actor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Bookstore owner: Ignaciju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Customer 1: </a:t>
            </a:r>
            <a:r>
              <a:rPr b="0" lang="lt-LT" sz="2100" spc="-1" strike="noStrike">
                <a:solidFill>
                  <a:srgbClr val="000000"/>
                </a:solidFill>
                <a:latin typeface="Century Schoolbook"/>
              </a:rPr>
              <a:t>Gabrielė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Customer 2: Silviju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ime: spans from 1999 to 201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22" name="Picture 6" descr="MB900297279.JPG"/>
          <p:cNvPicPr/>
          <p:nvPr/>
        </p:nvPicPr>
        <p:blipFill>
          <a:blip r:embed="rId1"/>
          <a:stretch/>
        </p:blipFill>
        <p:spPr>
          <a:xfrm>
            <a:off x="5940360" y="32846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E </a:t>
            </a:r>
            <a:r>
              <a:rPr b="0" lang="el-GR" sz="3000" spc="-1" strike="noStrike">
                <a:solidFill>
                  <a:srgbClr val="575f6d"/>
                </a:solidFill>
                <a:latin typeface="Century Schoolbook"/>
              </a:rPr>
              <a:t>#</a:t>
            </a: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1 – AT THE BOOKSTORE IN 1999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entury Schoolbook"/>
              </a:rPr>
              <a:t>Gabrielė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enters the bookstore where Ignacijus (the owner) is sitting on his desk read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Hi Ignacijus! How are you doing today?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Good morning </a:t>
            </a:r>
            <a:r>
              <a:rPr b="0" lang="lt-LT" sz="2400" spc="-1" strike="noStrike">
                <a:solidFill>
                  <a:srgbClr val="000000"/>
                </a:solidFill>
                <a:latin typeface="Century Schoolbook"/>
              </a:rPr>
              <a:t>Gabrielė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. Everything i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Fine..how can I help you? Are you looking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for something specific?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ell, I want to read and learn how to use MS Word..I need it for my job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EB9D-C980-4505-B545-019C9BB0631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MB900228993.JPG"/>
          <p:cNvPicPr/>
          <p:nvPr/>
        </p:nvPicPr>
        <p:blipFill>
          <a:blip r:embed="rId1"/>
          <a:stretch/>
        </p:blipFill>
        <p:spPr>
          <a:xfrm>
            <a:off x="680400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MB900433954.JPG"/>
          <p:cNvPicPr/>
          <p:nvPr/>
        </p:nvPicPr>
        <p:blipFill>
          <a:blip r:embed="rId2"/>
          <a:stretch/>
        </p:blipFill>
        <p:spPr>
          <a:xfrm>
            <a:off x="4716360" y="4724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E </a:t>
            </a:r>
            <a:r>
              <a:rPr b="0" lang="el-GR" sz="3000" spc="-1" strike="noStrike">
                <a:solidFill>
                  <a:srgbClr val="575f6d"/>
                </a:solidFill>
                <a:latin typeface="Century Schoolbook"/>
              </a:rPr>
              <a:t>#</a:t>
            </a: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1 – CONTINU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Ok, </a:t>
            </a:r>
            <a:r>
              <a:rPr b="0" lang="lt-LT" sz="2400" spc="-1" strike="noStrike">
                <a:solidFill>
                  <a:srgbClr val="000000"/>
                </a:solidFill>
                <a:latin typeface="Century Schoolbook"/>
              </a:rPr>
              <a:t>Gabrielė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…looking at the shelves here, I suggest you take these two books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 first is clear from the title that 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about MS Word, the second not that cle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but should be fine as the first gi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reference to it in the text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ank you Ignacijus! Let me check 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little bit their content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30" name="Picture 3" descr="SteveLambert_Library_Book_Cart.png"/>
          <p:cNvPicPr/>
          <p:nvPr/>
        </p:nvPicPr>
        <p:blipFill>
          <a:blip r:embed="rId1"/>
          <a:stretch/>
        </p:blipFill>
        <p:spPr>
          <a:xfrm>
            <a:off x="6516720" y="2133720"/>
            <a:ext cx="2028960" cy="23810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help-books-aj.png_aj_ash_01.png"/>
          <p:cNvPicPr/>
          <p:nvPr/>
        </p:nvPicPr>
        <p:blipFill>
          <a:blip r:embed="rId2"/>
          <a:stretch/>
        </p:blipFill>
        <p:spPr>
          <a:xfrm>
            <a:off x="5364000" y="447660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MB900433934.JPG"/>
          <p:cNvPicPr/>
          <p:nvPr/>
        </p:nvPicPr>
        <p:blipFill>
          <a:blip r:embed="rId3"/>
          <a:stretch/>
        </p:blipFill>
        <p:spPr>
          <a:xfrm>
            <a:off x="305928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E </a:t>
            </a:r>
            <a:r>
              <a:rPr b="0" lang="el-GR" sz="3000" spc="-1" strike="noStrike">
                <a:solidFill>
                  <a:srgbClr val="575f6d"/>
                </a:solidFill>
                <a:latin typeface="Century Schoolbook"/>
              </a:rPr>
              <a:t>#</a:t>
            </a: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1 – CONTINU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89B9-8B50-4B2D-8934-DA1F1136DFE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gnacijus…it seems that the second book has nothing to do with MS Word!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 am sorry </a:t>
            </a:r>
            <a:r>
              <a:rPr b="0" lang="lt-LT" sz="2400" spc="-1" strike="noStrike">
                <a:solidFill>
                  <a:srgbClr val="000000"/>
                </a:solidFill>
                <a:latin typeface="Century Schoolbook"/>
              </a:rPr>
              <a:t>Gabrielė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for the inconvenience…was not able to know…I will try to remember it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36" name="Picture 4" descr="jimmiet_Big_Book.png"/>
          <p:cNvPicPr/>
          <p:nvPr/>
        </p:nvPicPr>
        <p:blipFill>
          <a:blip r:embed="rId1"/>
          <a:stretch/>
        </p:blipFill>
        <p:spPr>
          <a:xfrm>
            <a:off x="250920" y="1628640"/>
            <a:ext cx="2381040" cy="1619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C:\Users\giorgos\AppData\Local\Microsoft\Windows\Temporary Internet Files\Content.IE5\A4893SF4\MC900441467[1].png"/>
          <p:cNvPicPr/>
          <p:nvPr/>
        </p:nvPicPr>
        <p:blipFill>
          <a:blip r:embed="rId2"/>
          <a:stretch/>
        </p:blipFill>
        <p:spPr>
          <a:xfrm>
            <a:off x="971640" y="1844640"/>
            <a:ext cx="1303200" cy="1303200"/>
          </a:xfrm>
          <a:prstGeom prst="rect">
            <a:avLst/>
          </a:prstGeom>
          <a:ln w="0">
            <a:noFill/>
          </a:ln>
        </p:spPr>
      </p:pic>
      <p:sp>
        <p:nvSpPr>
          <p:cNvPr id="338" name="Wave 6"/>
          <p:cNvSpPr/>
          <p:nvPr/>
        </p:nvSpPr>
        <p:spPr>
          <a:xfrm>
            <a:off x="1908000" y="1557360"/>
            <a:ext cx="3240360" cy="1655640"/>
          </a:xfrm>
          <a:custGeom>
            <a:avLst/>
            <a:gdLst>
              <a:gd name="textAreaLeft" fmla="*/ 0 w 3240360"/>
              <a:gd name="textAreaRight" fmla="*/ 3240720 w 3240360"/>
              <a:gd name="textAreaTop" fmla="*/ 414000 h 1655640"/>
              <a:gd name="textAreaBottom" fmla="*/ 12420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entury Schoolbook"/>
              </a:rPr>
              <a:t>MS Word </a:t>
            </a:r>
            <a:r>
              <a:rPr b="0" i="1" lang="en-GB" sz="1400" spc="-1" strike="noStrike">
                <a:solidFill>
                  <a:srgbClr val="000000"/>
                </a:solidFill>
                <a:latin typeface="Century Schoolbook"/>
              </a:rPr>
              <a:t>is a text processing tool that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7" descr="large-open-book.jpg"/>
          <p:cNvPicPr/>
          <p:nvPr/>
        </p:nvPicPr>
        <p:blipFill>
          <a:blip r:embed="rId3"/>
          <a:stretch/>
        </p:blipFill>
        <p:spPr>
          <a:xfrm>
            <a:off x="6012000" y="3213000"/>
            <a:ext cx="1904760" cy="1314720"/>
          </a:xfrm>
          <a:prstGeom prst="rect">
            <a:avLst/>
          </a:prstGeom>
          <a:ln w="0">
            <a:noFill/>
          </a:ln>
        </p:spPr>
      </p:pic>
      <p:sp>
        <p:nvSpPr>
          <p:cNvPr id="340" name="Wave 8"/>
          <p:cNvSpPr/>
          <p:nvPr/>
        </p:nvSpPr>
        <p:spPr>
          <a:xfrm>
            <a:off x="3708360" y="2997360"/>
            <a:ext cx="3240000" cy="1655640"/>
          </a:xfrm>
          <a:custGeom>
            <a:avLst/>
            <a:gdLst>
              <a:gd name="textAreaLeft" fmla="*/ 0 w 3240000"/>
              <a:gd name="textAreaRight" fmla="*/ 3240360 w 3240000"/>
              <a:gd name="textAreaTop" fmla="*/ 414000 h 1655640"/>
              <a:gd name="textAreaBottom" fmla="*/ 12420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Century Schoolbook"/>
              </a:rPr>
              <a:t>Internet Explorer is not a text processing tool, like </a:t>
            </a:r>
            <a:r>
              <a:rPr b="1" i="1" lang="en-GB" sz="1400" spc="-1" strike="noStrike">
                <a:solidFill>
                  <a:srgbClr val="000000"/>
                </a:solidFill>
                <a:latin typeface="Century Schoolbook"/>
              </a:rPr>
              <a:t>MS Word </a:t>
            </a:r>
            <a:r>
              <a:rPr b="0" i="1" lang="en-GB" sz="1400" spc="-1" strike="noStrike">
                <a:solidFill>
                  <a:srgbClr val="000000"/>
                </a:solidFill>
                <a:latin typeface="Century Schoolbook"/>
              </a:rPr>
              <a:t>is. Internet Explorer is a web browser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E </a:t>
            </a:r>
            <a:r>
              <a:rPr b="0" lang="el-GR" sz="3000" spc="-1" strike="noStrike">
                <a:solidFill>
                  <a:srgbClr val="575f6d"/>
                </a:solidFill>
                <a:latin typeface="Century Schoolbook"/>
              </a:rPr>
              <a:t>#</a:t>
            </a: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2 – AT THE BOOKSTORE IN 2004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6B9D-602F-4DDD-BC68-A55DF1B3533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As time passed, many more writers were sending books to Ignacijus store…from journals to comics to scientific articles to cooking recipes to academic books…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gnacijus was standing sad, as he could not be of any help to his customers anymore…too much information to proc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44" name="Picture 4" descr="450px-FI_bookstore.JPG"/>
          <p:cNvPicPr/>
          <p:nvPr/>
        </p:nvPicPr>
        <p:blipFill>
          <a:blip r:embed="rId1"/>
          <a:stretch/>
        </p:blipFill>
        <p:spPr>
          <a:xfrm>
            <a:off x="4716360" y="3933720"/>
            <a:ext cx="1922400" cy="2563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4430991405_ac1d4ca7c0_t.jpg"/>
          <p:cNvPicPr/>
          <p:nvPr/>
        </p:nvPicPr>
        <p:blipFill>
          <a:blip r:embed="rId2"/>
          <a:stretch/>
        </p:blipFill>
        <p:spPr>
          <a:xfrm>
            <a:off x="6732720" y="4581360"/>
            <a:ext cx="10285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E </a:t>
            </a:r>
            <a:r>
              <a:rPr b="0" lang="el-GR" sz="3000" spc="-1" strike="noStrike">
                <a:solidFill>
                  <a:srgbClr val="575f6d"/>
                </a:solidFill>
                <a:latin typeface="Century Schoolbook"/>
              </a:rPr>
              <a:t>#</a:t>
            </a: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3 – AT THE BOOKSTORE IN 2008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6840" y="1600200"/>
            <a:ext cx="6491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gnacijus was in the process of organising his store…he bought a computer and also a furniture for storing card-catalogs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n he tagged all books with card-triplets of the form [</a:t>
            </a: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subject – property – object]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and properly filed this tagging…he was now able to look at the cards and locate any book to match his customers’ nee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48" name="Picture 3" descr="SteveLambert_Card_Catalog.png"/>
          <p:cNvPicPr/>
          <p:nvPr/>
        </p:nvPicPr>
        <p:blipFill>
          <a:blip r:embed="rId1"/>
          <a:stretch/>
        </p:blipFill>
        <p:spPr>
          <a:xfrm>
            <a:off x="7093080" y="1484280"/>
            <a:ext cx="1666800" cy="23814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MB900040015.JPG"/>
          <p:cNvPicPr/>
          <p:nvPr/>
        </p:nvPicPr>
        <p:blipFill>
          <a:blip r:embed="rId2"/>
          <a:stretch/>
        </p:blipFill>
        <p:spPr>
          <a:xfrm>
            <a:off x="6443640" y="4653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E </a:t>
            </a:r>
            <a:r>
              <a:rPr b="0" lang="el-GR" sz="3000" spc="-1" strike="noStrike">
                <a:solidFill>
                  <a:srgbClr val="575f6d"/>
                </a:solidFill>
                <a:latin typeface="Century Schoolbook"/>
              </a:rPr>
              <a:t>#</a:t>
            </a: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3 – CONTINU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For convenience Ignacijus used the following tagging for the book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[bookID1 - is about - MS Word]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[MS Word - is a tool for - text processing]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[Libre office - has tools for - text processing]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[bookID2 - is about - Web browsers]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[Internet Explorer - is a - Web browser]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[Gabriele – speaks – Lithuanian]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[Gabriele – prefers to pay by – credit card]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[Silvijus – has impairment – visual]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[Silvius – uses assistive device – keyboard]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5483-D887-4C0F-BD9E-745A20590CA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E </a:t>
            </a:r>
            <a:r>
              <a:rPr b="0" lang="el-GR" sz="3000" spc="-1" strike="noStrike">
                <a:solidFill>
                  <a:srgbClr val="575f6d"/>
                </a:solidFill>
                <a:latin typeface="Century Schoolbook"/>
              </a:rPr>
              <a:t>#</a:t>
            </a: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4 – AT THE BOOKSTORE IN 201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ilvijus enters the bookstore and asks for a book about ViPi mobile applica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Hi Silvijus…yes of course I can hel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you…let me check my computer and 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ill bring you exactly what you want!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4" descr="MB900433941.JPG"/>
          <p:cNvPicPr/>
          <p:nvPr/>
        </p:nvPicPr>
        <p:blipFill>
          <a:blip r:embed="rId1"/>
          <a:stretch/>
        </p:blipFill>
        <p:spPr>
          <a:xfrm>
            <a:off x="4284720" y="3716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MB900241645.JPG"/>
          <p:cNvPicPr/>
          <p:nvPr/>
        </p:nvPicPr>
        <p:blipFill>
          <a:blip r:embed="rId2"/>
          <a:stretch/>
        </p:blipFill>
        <p:spPr>
          <a:xfrm>
            <a:off x="1476360" y="4149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MB900433925.JPG"/>
          <p:cNvPicPr/>
          <p:nvPr/>
        </p:nvPicPr>
        <p:blipFill>
          <a:blip r:embed="rId3"/>
          <a:stretch/>
        </p:blipFill>
        <p:spPr>
          <a:xfrm>
            <a:off x="6659640" y="2205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6:23:49Z</dcterms:created>
  <dc:creator>Karel Van Isacker</dc:creator>
  <dc:description/>
  <dc:language>en-US</dc:language>
  <cp:lastModifiedBy>George Milis</cp:lastModifiedBy>
  <dcterms:modified xsi:type="dcterms:W3CDTF">2012-05-01T09:04:09Z</dcterms:modified>
  <cp:revision>143</cp:revision>
  <dc:subject>ViPi - Virtual Portal for Interaction and ICT Training for People with Disabilities</dc:subject>
  <dc:title>Slide template</dc:title>
</cp:coreProperties>
</file>