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2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2408-73CA-4BF6-B14B-311397ADE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4A36-2B47-4A0B-8046-A52DE0983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88E6-19B6-41B6-B212-AF5FAFBEA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8B7D-021C-4C73-985E-3B93C9481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E3CB-1EF6-455F-BB5C-FDB72BA12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7DD-AC76-46AA-8489-C31A2444C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041E-7E66-4725-9029-9B6A9F7BA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889A-0D83-4CAE-BF05-C7F5FC868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4FB1-D7C8-4FD6-95E0-D7D1F4DEF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F77C-76D5-43F9-B5C2-EE7801EDD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1454-C3AD-404C-BCCE-9306A0856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DE1F-C013-4AEE-BD7B-9A87F5E70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D29D-2529-4932-8E65-A9A0E5D7C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4173-11DA-4A43-A5C3-56FC82E78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909C-5806-494C-8B8F-6AA1E7579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A74-FF20-469B-8CBD-D444C0C2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0F0-ADFF-4C61-BEE5-84233B27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5C6-AA8E-4432-A29F-3014534F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DCD-4E81-4C93-B260-A0280608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79CE-0638-4F45-A7D3-CA94C851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68F3-F642-40C5-8B60-379E5E24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55A5-537E-4582-922F-A3434072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BAEB-F85B-4C9F-9677-3B60AF5D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C72B-C97C-45DE-90AA-99B5E927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5519-1ABA-41C4-967C-0F2090DD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977E-3439-47AD-B24B-D2F6AA8E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849-AB17-4E77-9000-B726A4A2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F0B9-4C32-4460-A242-F3C3F50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E633-6FBF-40B1-9962-AEC441CF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F909-7A08-4084-A62B-03593A36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2F23-95E9-4281-97CB-FBA88FA1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0D5F-0103-4965-8BDC-9859AAF7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C59DA-2A56-4F26-91D6-FC3ABF71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CA940-E615-46F6-B15A-E57D6F96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55C2C-33D9-4EAE-9C25-24FE4E64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32A7C-BF12-4DBC-A086-0E802481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89161-9216-416B-92AB-C8538441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CF6-E8C0-47D5-9401-0ADFBEDB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54DC5-A61F-4A90-8542-AF74125A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42419-AE06-4E3F-8C68-3B70D04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FF86B-299F-491A-B40B-4C191E4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70AFD-4596-4503-B094-D41903EF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04A65-28A8-482B-9B43-725C365A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D570A-A641-47B8-8913-CBF70A18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864FA-F64A-448F-B72C-8BF4A2FA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80446-41E0-4BFC-B333-0DD340DD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57A02-E0C7-40CF-AB04-2B01DD4E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F8AE-FC02-4977-9AC2-F8BA531E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7E6-DF24-4200-8014-D579BC5A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536B-F5A4-4DAB-B2BF-9CB073CD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95C3-0FDF-4D1C-A869-31F7082F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4054-0086-4BAA-B1E7-ED854C73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CB88-3AC3-4B5D-ADA0-EF572AF4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5008A-82E4-464E-8504-2A7C00B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E0A4-D95E-446C-87CC-10F8AFB5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B112-093E-4A7F-B412-675179FE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6228-A4C9-48B1-8536-4A024824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04A9-5278-43A0-89EB-4D0BE439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0B9A4-4376-4EB3-9121-85819506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CDB-DB71-4DFC-ADC4-75D38DB9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ED87F-5BA4-4C9E-A057-6F3F181A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0D2C8-1DDD-4EBF-85B0-4901BFD4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BF7FD-56DD-4D67-9C6B-5E8A4CA7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715C0-2DDE-4128-8447-61C8B01D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FCB1A-C648-4D4A-ABB2-35A756B9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307EF-834F-4CE9-A3CA-DE03A526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33046-7747-45DF-9124-1BF6AF2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51A3A-8D0C-4C5A-8BED-AF2F4793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94E6E-C1AD-4B1A-A814-35114675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67A38-A129-443E-B09E-D49E6183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65F-B29B-489F-BDC3-4BFEE374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7FB75-2308-4522-89BA-C0BF9481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EB4A8-9AD5-44E0-9024-887E2265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C6217-9CDF-49DE-A18E-BEFCA23B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3B535-0B92-4628-9D05-A07FF372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4E5D5-B424-469C-955F-F16D06A8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C8F71-98C6-4B8C-98FF-424AD62B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1CBB4-75B9-4192-B066-A7F47DE5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8A97B-74B3-40AB-B97A-4E765E4F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506C6-FA5B-43F9-B3CA-A63799A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64DAB-8A60-45E6-A955-9AD9A19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A09-8702-4A36-AE46-7D643461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5E788-B759-4FFA-AAF1-F46DAA9B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4DF4E-0AC3-4D9F-B74F-C832C83D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89854-AC07-4214-9885-1B1185BA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727-E556-4407-87A5-1549580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50F-B7F0-4A7F-85F8-8729B678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42C6-7927-453F-982E-4F4B2DAD01D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16A8-9FCA-4ED9-8CCD-73C6D49FD49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904760" cy="6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A-Projects\2011\ViPi\Deliverables\WP8\Logo\vipi_logo_def_CMYK_2-facebook.jpg"/>
          <p:cNvPicPr/>
          <p:nvPr/>
        </p:nvPicPr>
        <p:blipFill>
          <a:blip r:embed="rId3"/>
          <a:stretch/>
        </p:blipFill>
        <p:spPr>
          <a:xfrm>
            <a:off x="3203640" y="105264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490B-C10F-4EB5-A388-4D792FB5A277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D4B7-A554-4A5A-9FFA-CFD550B1D4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46160" y="6408720"/>
            <a:ext cx="1041120" cy="379440"/>
          </a:xfrm>
          <a:prstGeom prst="rect">
            <a:avLst/>
          </a:prstGeom>
          <a:ln w="0">
            <a:noFill/>
          </a:ln>
        </p:spPr>
      </p:pic>
      <p:sp>
        <p:nvSpPr>
          <p:cNvPr id="113" name="Subtitle 2"/>
          <p:cNvSpPr/>
          <p:nvPr/>
        </p:nvSpPr>
        <p:spPr>
          <a:xfrm>
            <a:off x="1547640" y="6497640"/>
            <a:ext cx="6172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 ViPi Workshop; 02/05/2012, Vilnius,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A-Projects\2011\ViPi\Deliverables\WP8\Logo\vipi_logo_def_CMYK_2-facebook.jpg"/>
          <p:cNvPicPr/>
          <p:nvPr/>
        </p:nvPicPr>
        <p:blipFill>
          <a:blip r:embed="rId3"/>
          <a:srcRect l="0" t="25147" r="0" b="26205"/>
          <a:stretch/>
        </p:blipFill>
        <p:spPr>
          <a:xfrm>
            <a:off x="7451640" y="476280"/>
            <a:ext cx="1220760" cy="593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2D5E-A562-4748-8661-795745C42F6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86B-3954-4C24-90C2-C454FE0007B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7E6-2584-418C-9767-3031DED2E936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9046-8AE2-4B31-9418-25C44B6E714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D5BF-1314-4ECA-9BAA-DB2051571614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CFB5-3846-45DC-B983-79F1C88BD3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C146-A9A1-41D2-81CC-9FD0BB1DF61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6944-5255-416D-965E-B1C3BC20705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68000" y="4005000"/>
            <a:ext cx="6172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75f6d"/>
                </a:solidFill>
                <a:latin typeface="Century Schoolbook"/>
              </a:rPr>
              <a:t>SEMANTIC CONTENT MANAGEMENT ENHANCEMENTS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285640" y="4941360"/>
            <a:ext cx="61722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George Milis, G.M EuroCy Innovations Lt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2</a:t>
            </a:r>
            <a:r>
              <a:rPr b="1" lang="en-GB" sz="1600" spc="-1" strike="noStrike" baseline="30000">
                <a:solidFill>
                  <a:srgbClr val="575f6d"/>
                </a:solidFill>
                <a:latin typeface="Century Schoolbook"/>
              </a:rPr>
              <a:t>nd</a:t>
            </a: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 ViPi Workshop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(02/05/2012, Vilnius, Lithuani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75f6d"/>
                </a:solidFill>
                <a:latin typeface="Century Schoolbook"/>
              </a:rPr>
              <a:t>www.vipi-project.eu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75f6d"/>
                </a:solidFill>
                <a:latin typeface="Century Schoolbook"/>
              </a:rPr>
              <a:t>511792-LLP-1-2010-1-GR-KA3-KA3NW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DEB2-B2EE-4581-8894-9C43A37EF3F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4 – AT THE BOOKSTORE IN 201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gnacijus finds in his cards that Silvijus has a visual impairment, that he prefers to read books in English and that he is using some assistive technology with his keyboard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o he goes directly on the proper shelf and brings two books that fit exactly what Silvijus needs and are also accessible for hi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6" descr="AJ_Books.png"/>
          <p:cNvPicPr/>
          <p:nvPr/>
        </p:nvPicPr>
        <p:blipFill>
          <a:blip r:embed="rId1"/>
          <a:stretch/>
        </p:blipFill>
        <p:spPr>
          <a:xfrm>
            <a:off x="3635280" y="4437000"/>
            <a:ext cx="2381400" cy="2114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bpcomp_LibraryCheckout_approved.png"/>
          <p:cNvPicPr/>
          <p:nvPr/>
        </p:nvPicPr>
        <p:blipFill>
          <a:blip r:embed="rId2"/>
          <a:stretch/>
        </p:blipFill>
        <p:spPr>
          <a:xfrm>
            <a:off x="6227640" y="3933720"/>
            <a:ext cx="23814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STORY OF THE W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434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itially the Web was full of static websites and interlinked pages/documents. Nice!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eople were searching using keywords and were provided with lots of results through which they were (sometimes) able to find exactly what they wante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tely, the search engines also became smarter and helped people by learning of links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ut then social networking sites came, and blogs and wikis and collaboration tools and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ey allowed anyone to write and publish content on the Interne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e Web 2.0 era…Very nice!!! bu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Too much information and too difficult to search with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2486-ED72-4001-A180-01008BAE7B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STORY OF THE W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finally the Web 3.0 era started where ICT scientists realized that this huge repository of content should somehow be organized and tagged semantical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emantic Web! The content entities/objects (text, images, videos, chats, emails, blog posts, etc) is not thrown in the repository directly, but is first described with pre-defined vocabular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[Subject --Property -- Object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 bette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ED21-A20B-46BC-8DFC-45A6081300E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IPI UTILIZES THE SEMANTIC WEB CONCEP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Pi large repository of Learning Objects (L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Os are semantically tagged with predefined vocabula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[LOid1 – is of type - video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[LOid1 – is compatible with impairment - hearing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 the same time, all users’ profiles are enriched with semantic tag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[User1 – has impairment - hearing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[User1 – prefers content of type – image/video/text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earching through the repository and finding the proper content becomes much easier because of the stored meaning!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DFDA-53D5-4D00-9371-EA8A66A0F22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ANK YOU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2781360"/>
            <a:ext cx="746748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re are no disabled people…just societies not able enough to accommodate their people needs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9EB9-9CC7-4830-B621-32ACD73403F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STORY OUTLI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7E17-40F4-4767-AE23-AB9B67CF1D7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7283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story is about a bookstore in Vilnius that was selling books of different topics and from different wri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ctor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Bookstore owner: Ignaciju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Customer 1: </a:t>
            </a:r>
            <a:r>
              <a:rPr b="0" lang="lt-LT" sz="21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Customer 2: Silviju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ime: spans from 1999 to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22" name="Picture 6" descr="MB900297279.JPG"/>
          <p:cNvPicPr/>
          <p:nvPr/>
        </p:nvPicPr>
        <p:blipFill>
          <a:blip r:embed="rId1"/>
          <a:stretch/>
        </p:blipFill>
        <p:spPr>
          <a:xfrm>
            <a:off x="5940360" y="3284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1 – AT THE BOOKSTORE IN 1999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enters the bookstore where Ignacijus (the owner) is sitting on his desk rea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i Ignacijus! How are you doing today?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ood morning </a:t>
            </a:r>
            <a:r>
              <a:rPr b="0" lang="lt-LT" sz="24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. Everything i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ine..how can I help you? Are you lookin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or something specific?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ll, I want to read and learn how to use MS Word..I need it for my job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E32B-6E8A-4FFA-A2AE-BA5FA5DC3AE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MB900228993.JPG"/>
          <p:cNvPicPr/>
          <p:nvPr/>
        </p:nvPicPr>
        <p:blipFill>
          <a:blip r:embed="rId1"/>
          <a:stretch/>
        </p:blipFill>
        <p:spPr>
          <a:xfrm>
            <a:off x="6804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MB900433954.JPG"/>
          <p:cNvPicPr/>
          <p:nvPr/>
        </p:nvPicPr>
        <p:blipFill>
          <a:blip r:embed="rId2"/>
          <a:stretch/>
        </p:blipFill>
        <p:spPr>
          <a:xfrm>
            <a:off x="471636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1 – CONTINU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k, </a:t>
            </a:r>
            <a:r>
              <a:rPr b="0" lang="lt-LT" sz="24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…looking at the shelves here, I suggest you take these two books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first is clear from the title that 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bout MS Word, the second not that cl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t should be fine as the first g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ference to it in the text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ank you Ignacijus! Let me check 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little bit their conten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30" name="Picture 3" descr="SteveLambert_Library_Book_Cart.png"/>
          <p:cNvPicPr/>
          <p:nvPr/>
        </p:nvPicPr>
        <p:blipFill>
          <a:blip r:embed="rId1"/>
          <a:stretch/>
        </p:blipFill>
        <p:spPr>
          <a:xfrm>
            <a:off x="6516720" y="2133720"/>
            <a:ext cx="2028960" cy="2381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elp-books-aj.png_aj_ash_01.png"/>
          <p:cNvPicPr/>
          <p:nvPr/>
        </p:nvPicPr>
        <p:blipFill>
          <a:blip r:embed="rId2"/>
          <a:stretch/>
        </p:blipFill>
        <p:spPr>
          <a:xfrm>
            <a:off x="5364000" y="44766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MB900433934.JPG"/>
          <p:cNvPicPr/>
          <p:nvPr/>
        </p:nvPicPr>
        <p:blipFill>
          <a:blip r:embed="rId3"/>
          <a:stretch/>
        </p:blipFill>
        <p:spPr>
          <a:xfrm>
            <a:off x="30592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1 – CONTINU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82D-6143-4BC3-B611-5EC9904512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gnacijus…it seems that the second book has nothing to do with MS Word!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 am sorry </a:t>
            </a:r>
            <a:r>
              <a:rPr b="0" lang="lt-LT" sz="24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for the inconvenience…was not able to know…I will try to remember i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36" name="Picture 4" descr="jimmiet_Big_Book.png"/>
          <p:cNvPicPr/>
          <p:nvPr/>
        </p:nvPicPr>
        <p:blipFill>
          <a:blip r:embed="rId1"/>
          <a:stretch/>
        </p:blipFill>
        <p:spPr>
          <a:xfrm>
            <a:off x="250920" y="1628640"/>
            <a:ext cx="2381040" cy="1619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giorgos\AppData\Local\Microsoft\Windows\Temporary Internet Files\Content.IE5\A4893SF4\MC900441467[1].png"/>
          <p:cNvPicPr/>
          <p:nvPr/>
        </p:nvPicPr>
        <p:blipFill>
          <a:blip r:embed="rId2"/>
          <a:stretch/>
        </p:blipFill>
        <p:spPr>
          <a:xfrm>
            <a:off x="971640" y="1844640"/>
            <a:ext cx="1303200" cy="1303200"/>
          </a:xfrm>
          <a:prstGeom prst="rect">
            <a:avLst/>
          </a:prstGeom>
          <a:ln w="0">
            <a:noFill/>
          </a:ln>
        </p:spPr>
      </p:pic>
      <p:sp>
        <p:nvSpPr>
          <p:cNvPr id="338" name="Wave 6"/>
          <p:cNvSpPr/>
          <p:nvPr/>
        </p:nvSpPr>
        <p:spPr>
          <a:xfrm>
            <a:off x="1908000" y="1557360"/>
            <a:ext cx="3240360" cy="1655640"/>
          </a:xfrm>
          <a:custGeom>
            <a:avLst/>
            <a:gdLst>
              <a:gd name="textAreaLeft" fmla="*/ 0 w 3240360"/>
              <a:gd name="textAreaRight" fmla="*/ 3240720 w 3240360"/>
              <a:gd name="textAreaTop" fmla="*/ 414000 h 1655640"/>
              <a:gd name="textAreaBottom" fmla="*/ 1242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entury Schoolbook"/>
              </a:rPr>
              <a:t>MS Word </a:t>
            </a:r>
            <a:r>
              <a:rPr b="0" i="1" lang="en-GB" sz="1400" spc="-1" strike="noStrike">
                <a:solidFill>
                  <a:srgbClr val="000000"/>
                </a:solidFill>
                <a:latin typeface="Century Schoolbook"/>
              </a:rPr>
              <a:t>is a text processing tool tha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7" descr="large-open-book.jpg"/>
          <p:cNvPicPr/>
          <p:nvPr/>
        </p:nvPicPr>
        <p:blipFill>
          <a:blip r:embed="rId3"/>
          <a:stretch/>
        </p:blipFill>
        <p:spPr>
          <a:xfrm>
            <a:off x="6012000" y="3213000"/>
            <a:ext cx="1904760" cy="1314720"/>
          </a:xfrm>
          <a:prstGeom prst="rect">
            <a:avLst/>
          </a:prstGeom>
          <a:ln w="0">
            <a:noFill/>
          </a:ln>
        </p:spPr>
      </p:pic>
      <p:sp>
        <p:nvSpPr>
          <p:cNvPr id="340" name="Wave 8"/>
          <p:cNvSpPr/>
          <p:nvPr/>
        </p:nvSpPr>
        <p:spPr>
          <a:xfrm>
            <a:off x="3708360" y="2997360"/>
            <a:ext cx="3240000" cy="1655640"/>
          </a:xfrm>
          <a:custGeom>
            <a:avLst/>
            <a:gdLst>
              <a:gd name="textAreaLeft" fmla="*/ 0 w 3240000"/>
              <a:gd name="textAreaRight" fmla="*/ 3240360 w 3240000"/>
              <a:gd name="textAreaTop" fmla="*/ 414000 h 1655640"/>
              <a:gd name="textAreaBottom" fmla="*/ 1242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entury Schoolbook"/>
              </a:rPr>
              <a:t>Internet Explorer is not a text processing tool, like </a:t>
            </a:r>
            <a:r>
              <a:rPr b="1" i="1" lang="en-GB" sz="1400" spc="-1" strike="noStrike">
                <a:solidFill>
                  <a:srgbClr val="000000"/>
                </a:solidFill>
                <a:latin typeface="Century Schoolbook"/>
              </a:rPr>
              <a:t>MS Word </a:t>
            </a:r>
            <a:r>
              <a:rPr b="0" i="1" lang="en-GB" sz="1400" spc="-1" strike="noStrike">
                <a:solidFill>
                  <a:srgbClr val="000000"/>
                </a:solidFill>
                <a:latin typeface="Century Schoolbook"/>
              </a:rPr>
              <a:t>is. Internet Explorer is a web browse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2 – AT THE BOOKSTORE IN 200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E2C-8464-4DC1-888D-9D7F530BD7F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s time passed, many more writers were sending books to Ignacijus store…from journals to comics to scientific articles to cooking recipes to academic books…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gnacijus was standing sad, as he could not be of any help to his customers anymore…too much information to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4" name="Picture 4" descr="450px-FI_bookstore.JPG"/>
          <p:cNvPicPr/>
          <p:nvPr/>
        </p:nvPicPr>
        <p:blipFill>
          <a:blip r:embed="rId1"/>
          <a:stretch/>
        </p:blipFill>
        <p:spPr>
          <a:xfrm>
            <a:off x="4716360" y="3933720"/>
            <a:ext cx="1922400" cy="256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4430991405_ac1d4ca7c0_t.jpg"/>
          <p:cNvPicPr/>
          <p:nvPr/>
        </p:nvPicPr>
        <p:blipFill>
          <a:blip r:embed="rId2"/>
          <a:stretch/>
        </p:blipFill>
        <p:spPr>
          <a:xfrm>
            <a:off x="6732720" y="4581360"/>
            <a:ext cx="10285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3 – AT THE BOOKSTORE IN 200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649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gnacijus was in the process of organising his store…he bought a computer and also a furniture for storing card-catalog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n he tagged all books with card-triplets of the form [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subject – property – object]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nd properly filed this tagging…he was now able to look at the cards and locate any book to match his customers’ nee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8" name="Picture 3" descr="SteveLambert_Card_Catalog.png"/>
          <p:cNvPicPr/>
          <p:nvPr/>
        </p:nvPicPr>
        <p:blipFill>
          <a:blip r:embed="rId1"/>
          <a:stretch/>
        </p:blipFill>
        <p:spPr>
          <a:xfrm>
            <a:off x="7093080" y="1484280"/>
            <a:ext cx="1666800" cy="2381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MB900040015.JPG"/>
          <p:cNvPicPr/>
          <p:nvPr/>
        </p:nvPicPr>
        <p:blipFill>
          <a:blip r:embed="rId2"/>
          <a:stretch/>
        </p:blipFill>
        <p:spPr>
          <a:xfrm>
            <a:off x="6443640" y="4653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3 – CONTINU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or convenience Ignacijus used the following tagging for the book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bookID1 - is about - MS Word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MS Word - is a tool for - text processing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Libre office - has tools for - text processing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bookID2 - is about - Web browsers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Internet Explorer - is a - Web browser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Gabriele – speaks – Lithuanian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Gabriele – prefers to pay by – credit card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Silvijus – has impairment – visual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Silvius – uses assistive device – keyboard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3A93-6AED-49B9-A40E-2FDDFE4113F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4 – AT THE BOOKSTORE IN 201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ilvijus enters the bookstore and asks for a book about ViPi mobile applic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i Silvijus…yes of course I can hel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you…let me check my computer and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ill bring you exactly what you want!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4" descr="MB900433941.JPG"/>
          <p:cNvPicPr/>
          <p:nvPr/>
        </p:nvPicPr>
        <p:blipFill>
          <a:blip r:embed="rId1"/>
          <a:stretch/>
        </p:blipFill>
        <p:spPr>
          <a:xfrm>
            <a:off x="4284720" y="3716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MB900241645.JPG"/>
          <p:cNvPicPr/>
          <p:nvPr/>
        </p:nvPicPr>
        <p:blipFill>
          <a:blip r:embed="rId2"/>
          <a:stretch/>
        </p:blipFill>
        <p:spPr>
          <a:xfrm>
            <a:off x="1476360" y="414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MB900433925.JPG"/>
          <p:cNvPicPr/>
          <p:nvPr/>
        </p:nvPicPr>
        <p:blipFill>
          <a:blip r:embed="rId3"/>
          <a:stretch/>
        </p:blipFill>
        <p:spPr>
          <a:xfrm>
            <a:off x="6659640" y="2205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6:23:49Z</dcterms:created>
  <dc:creator>Karel Van Isacker</dc:creator>
  <dc:description/>
  <dc:language>en-US</dc:language>
  <cp:lastModifiedBy>George Milis</cp:lastModifiedBy>
  <dcterms:modified xsi:type="dcterms:W3CDTF">2012-05-01T09:04:09Z</dcterms:modified>
  <cp:revision>143</cp:revision>
  <dc:subject>ViPi - Virtual Portal for Interaction and ICT Training for People with Disabilities</dc:subject>
  <dc:title>Slide template</dc:title>
</cp:coreProperties>
</file>