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35835-AB6B-4FAF-BB50-93FB7BDAF1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8DE15-99C8-4E0C-8630-10E1E41F66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44761-8289-4AF1-BB8F-27D8EC186B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5C980-3A86-491C-8674-7204053C11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F0AFA-EAF7-485D-A394-87AB9BD77A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72116-719F-45D4-96C5-F361171AC4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DEC6E-9D78-42E7-8CE9-5CB8E54FED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10188-783F-4BCB-86C3-163625F785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A7D8D-2BEA-4ED6-8F94-5ADA079A1A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2732-E7FB-4757-9BA8-2099273EC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A909-2BEC-4BF9-A439-7388A8C2D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1A6A-3801-47B3-B451-E26ADFE8F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57E2-EAEE-4E24-AA77-AC6E9407B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62866-BE7D-4E3B-89E5-F39E624EC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3BD91-D7F9-42D8-8FDE-5CA75E062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60D4A-397C-481D-A610-C5EFC9E4E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62E8B-A597-43AF-AC2B-4611E7A21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5F751-A2F3-4FA0-9CEB-12AB2E4F2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2BDCE-B8B1-4A26-9A8C-C3EEB8E0C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3BAF7-F44E-40F9-8C13-03AE28C1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577F-BA80-4426-A9A1-FA46816A6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8421F-AD8B-4FAC-9922-48B7CE5A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43E80-0A7A-439A-8E1F-9067B035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7B783-E9DC-47E3-BFD5-8DA7AF3CA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AC658-BAAF-4611-8511-8636F3627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B60C2-B624-4DB7-9E6B-A8175ACD7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841FF8-E709-4141-B302-5DFF42654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BFC674-05A2-4D47-998B-9F1AEDBE0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E47E53-A473-4868-A3FB-EB66CA01C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7470BA-7AD7-4015-B6A6-FBB34B57B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02B47C-408F-491B-B32C-01158EFA7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71BA-763D-454B-8A66-2FAE1EA45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4F467C-4F7C-4385-9DDD-D5614DD04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8DBABA-43E8-4D7A-9F74-E3E1DE88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7656FC-95B4-42A8-A959-E6CAD28F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AD4134-AC2C-40F0-8A81-5093E6A1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8770AE-7995-43D2-8726-6C44C0DEB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C91DE9-BB68-45DB-BD49-0D81C1B41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D198D6-C11B-4F3B-9C2E-5F1243F53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F2757-F78F-4F8D-B112-DCCA9E335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B48EC-5DC9-4DE6-AB74-DD03E0284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1A9C2-C985-4E62-BFEB-E7C61818C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31F8-29A6-4A3F-9880-AF61C9D9B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2D87A-12C0-49A4-AD7E-9C9E4A8E4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2C48B-0F54-4580-B06E-61336A683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8A87E-43D3-4662-A989-E21C02E3E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3259B-7ABD-4C04-8EC9-8D80EFFA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FA50E-8DEC-49C7-81A6-146EC757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AEF1B-EF32-4E9A-A821-22676FA8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16454-B5BD-44BB-B1F0-DF358BCEA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94FD6-FEF0-436E-AFA1-DDF800474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A56BA-27BC-448A-8842-FB6837FA1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7B48D6-99E5-4730-9F01-13CC49427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EFF4-281A-4FD3-B988-5CC1293F6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BC3E71-6A9E-4389-A884-61501D98E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1FC9BF-E87A-417A-BAF4-BF03D3117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3BB3EB-EE6F-494F-95CF-47BA88EDB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AFEBED-6548-4843-ABE9-FF8B78111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87DA1D-BA10-4207-AC0C-4AC61201B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1041DC-BDBE-4EC7-9730-30A717C2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3A2A9C-03E9-40D9-B8FA-12CD3186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C35157-810A-40F3-9E2C-DC89288B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E096E4-684D-4577-A9BD-5D0ADDDCF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0B8E2D-2E70-4EFC-BF01-5A5BEEEBA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564D-CD57-4068-850E-0E49B4A6A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C19751-0201-4091-A7B6-49662E128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19B3ED-5296-412D-A656-071059BBB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8B39E2-B604-4728-842C-A85B75234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52EDFE-F97B-4500-A954-B621A3951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BD16EE-CA0F-473E-9364-338DEE947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5969FD-84F2-4893-A2C8-788B96A2F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A5642B-A174-4B21-8F3D-DC2ACE438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B30CA9-493E-4D8D-889A-3AFC4FE3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A88C69-C956-4CCA-A10C-A9C41DD6F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5BC274-6C8D-46A4-B67E-66692E7B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0160-E441-4556-AE84-5AB0CD35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2143AF-3F32-4343-8438-877C23EF2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49017B-257D-4C90-9910-1C4F280F9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93FF13-40F1-4101-9716-BFC4E6FAE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3EB5-1046-462B-8509-3E659D3A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9E42-F9F1-4854-B16E-53E56047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E33E9-7DF5-4FEF-BBAA-A8FAA07C7B86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02480-EE49-453D-937E-B57A6CEB655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6659640" y="333360"/>
            <a:ext cx="1904760" cy="695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A-Projects\2011\ViPi\Deliverables\WP8\Logo\vipi_logo_def_CMYK_2-facebook.jpg"/>
          <p:cNvPicPr/>
          <p:nvPr/>
        </p:nvPicPr>
        <p:blipFill>
          <a:blip r:embed="rId3"/>
          <a:stretch/>
        </p:blipFill>
        <p:spPr>
          <a:xfrm>
            <a:off x="3203640" y="1052640"/>
            <a:ext cx="3848040" cy="38480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AFC39-CE3E-4A94-B141-6AD4AC9ED5C5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ADC7F-DBF3-4C1D-8913-D5636EE8852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146160" y="6408720"/>
            <a:ext cx="1041120" cy="379440"/>
          </a:xfrm>
          <a:prstGeom prst="rect">
            <a:avLst/>
          </a:prstGeom>
          <a:ln w="0">
            <a:noFill/>
          </a:ln>
        </p:spPr>
      </p:pic>
      <p:sp>
        <p:nvSpPr>
          <p:cNvPr id="113" name="Subtitle 2"/>
          <p:cNvSpPr/>
          <p:nvPr/>
        </p:nvSpPr>
        <p:spPr>
          <a:xfrm>
            <a:off x="1547640" y="6497640"/>
            <a:ext cx="6172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Schoolbook"/>
              </a:rPr>
              <a:t>National ViPi Workshop 02/05/2012, Vilnius, Lithua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C:\A-Projects\2011\ViPi\Deliverables\WP8\Logo\vipi_logo_def_CMYK_2-facebook.jpg"/>
          <p:cNvPicPr/>
          <p:nvPr/>
        </p:nvPicPr>
        <p:blipFill>
          <a:blip r:embed="rId3"/>
          <a:srcRect l="0" t="25147" r="0" b="26205"/>
          <a:stretch/>
        </p:blipFill>
        <p:spPr>
          <a:xfrm>
            <a:off x="7451640" y="476280"/>
            <a:ext cx="1220760" cy="5936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106F4-0845-422A-B13D-E81A0545BA66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23761-5D76-4911-93A4-5E8DE0A5AD8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3A58A-8B1E-429B-BCD0-544347CF8F6B}" type="datetime"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E2AB5-E89B-46E6-AAA4-0A8D4FAEC6C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D7676-577D-4A5F-9672-970BAD6DF6D8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DA501-B524-4576-91B2-1C28D3050D8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3044A-402B-44E3-BF49-0487FEE2D006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CAEFB-A0DA-435E-A556-1F0216287DE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karel@phoenixkm.eu" TargetMode="External"/><Relationship Id="rId2" Type="http://schemas.openxmlformats.org/officeDocument/2006/relationships/hyperlink" Target="mailto:ptsoris@steficon.gr" TargetMode="External"/><Relationship Id="rId3" Type="http://schemas.openxmlformats.org/officeDocument/2006/relationships/hyperlink" Target="mailto:k.petridis@trek.gr" TargetMode="Externa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268000" y="4005000"/>
            <a:ext cx="6172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575f6d"/>
                </a:solidFill>
                <a:latin typeface="Century Schoolbook"/>
              </a:rPr>
              <a:t>VIPI - VIRTUAL PORTAL FOR INTERACTION AND ICT TRAINING FOR PEOPLE WITH DISABILITIES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2285640" y="5589720"/>
            <a:ext cx="6172200" cy="78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75f6d"/>
                </a:solidFill>
                <a:latin typeface="Century Schoolbook"/>
              </a:rPr>
              <a:t>National ViPi Workshop 02/05/2012, Vilnius, Lithuania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75f6d"/>
                </a:solidFill>
                <a:latin typeface="Century Schoolbook"/>
              </a:rPr>
              <a:t>www.vipi-project.eu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75f6d"/>
                </a:solidFill>
                <a:latin typeface="Century Schoolbook"/>
              </a:rPr>
              <a:t>511792-LLP-1-2010-1-GR-KA3-KA3NW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8" name="Slide Number Placeholder 6"/>
          <p:cNvSpPr/>
          <p:nvPr/>
        </p:nvSpPr>
        <p:spPr>
          <a:xfrm>
            <a:off x="13255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26346-C356-479B-A4F9-C10C4A0D459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VIPI PLATFORM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A “one-stop-shop” interactive portal &amp; learning environment (online and via Android mobile phone) that delivers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</a:rPr>
              <a:t>a multilingual platform (English, Dutch, Greek, Lithuanian) with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</a:rPr>
              <a:t>an embedded social community (for VET centres, PwD, ICT training centres, etc.)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</a:rPr>
              <a:t>accessible (WCAG 2.0) online ICT for learning environment for PwD, their trainers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</a:rPr>
              <a:t>with an interactive and vast repository of interoperable SCORM compliant learning object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</a:rPr>
              <a:t>supported by Web 2.0 social services, and Web 3.0 for semantically enriched conten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Bring together key stakeholders and gatekeepers (VET, target groups, umbrella organizations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1CCB0-1836-45A9-91BA-6C9499B6A12D}" type="slidenum">
              <a:rPr b="1" lang="en-GB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6" descr=""/>
          <p:cNvPicPr/>
          <p:nvPr/>
        </p:nvPicPr>
        <p:blipFill>
          <a:blip r:embed="rId1"/>
          <a:stretch/>
        </p:blipFill>
        <p:spPr>
          <a:xfrm>
            <a:off x="3708360" y="2924280"/>
            <a:ext cx="1655640" cy="165708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TECHNICAL APPROACH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4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2AE9D-F8DB-4652-BE6D-55C570A33FA1}" type="slidenum">
              <a:rPr b="1" lang="en-GB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2" descr=""/>
          <p:cNvPicPr/>
          <p:nvPr/>
        </p:nvPicPr>
        <p:blipFill>
          <a:blip r:embed="rId2"/>
          <a:stretch/>
        </p:blipFill>
        <p:spPr>
          <a:xfrm>
            <a:off x="395280" y="1916280"/>
            <a:ext cx="2419200" cy="18856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"/>
          <p:cNvPicPr/>
          <p:nvPr/>
        </p:nvPicPr>
        <p:blipFill>
          <a:blip r:embed="rId3"/>
          <a:stretch/>
        </p:blipFill>
        <p:spPr>
          <a:xfrm>
            <a:off x="5940360" y="1557360"/>
            <a:ext cx="2552760" cy="179064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"/>
          <p:cNvPicPr/>
          <p:nvPr/>
        </p:nvPicPr>
        <p:blipFill>
          <a:blip r:embed="rId4"/>
          <a:stretch/>
        </p:blipFill>
        <p:spPr>
          <a:xfrm>
            <a:off x="3995640" y="4581360"/>
            <a:ext cx="2381400" cy="19242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7" descr=""/>
          <p:cNvPicPr/>
          <p:nvPr/>
        </p:nvPicPr>
        <p:blipFill>
          <a:blip r:embed="rId5"/>
          <a:stretch/>
        </p:blipFill>
        <p:spPr>
          <a:xfrm>
            <a:off x="5219640" y="2565360"/>
            <a:ext cx="739800" cy="7383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8" descr=""/>
          <p:cNvPicPr/>
          <p:nvPr/>
        </p:nvPicPr>
        <p:blipFill>
          <a:blip r:embed="rId6"/>
          <a:stretch/>
        </p:blipFill>
        <p:spPr>
          <a:xfrm>
            <a:off x="3419640" y="4653000"/>
            <a:ext cx="955440" cy="9558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9" descr=""/>
          <p:cNvPicPr/>
          <p:nvPr/>
        </p:nvPicPr>
        <p:blipFill>
          <a:blip r:embed="rId7"/>
          <a:stretch/>
        </p:blipFill>
        <p:spPr>
          <a:xfrm>
            <a:off x="3059280" y="1628640"/>
            <a:ext cx="1223640" cy="12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MOBILE LEARNING AND INTERA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1600200"/>
            <a:ext cx="77868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entury Schoolbook"/>
              </a:rPr>
              <a:t>Mobile social media (Android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entury Schoolbook"/>
              </a:rPr>
              <a:t>For beneficaries (PwD)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entury Schoolbook"/>
              </a:rPr>
              <a:t>For Learning Object providers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entury Schoolbook"/>
              </a:rPr>
              <a:t>Mobile game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entury Schoolbook"/>
              </a:rPr>
              <a:t>Basic ICT skills learning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entury Schoolbook"/>
              </a:rPr>
              <a:t>Educational gaming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entury Schoolbook"/>
              </a:rPr>
              <a:t>Learning basics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3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9CD94-8703-4043-801A-F334160BCC83}" type="slidenum">
              <a:rPr b="1" lang="en-GB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ONLINE LO PORTAL AND COMMUNIT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600200"/>
            <a:ext cx="77868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entury Schoolbook"/>
              </a:rPr>
              <a:t>Get the right learning course for your pupils, yourself, your family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entury Schoolbook"/>
              </a:rPr>
              <a:t>Ontology based search engine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0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Schoolbook"/>
              </a:rPr>
              <a:t>Allows very targeted searching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0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Schoolbook"/>
              </a:rPr>
              <a:t>For who, for what, what mode, format, price (if any), language, etc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entury Schoolbook"/>
              </a:rPr>
              <a:t>Repository of games, applications, etc. related to different kinds of disabilities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0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Schoolbook"/>
              </a:rPr>
              <a:t>Vision, hearing, speech, mobility, cognitive, etc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entury Schoolbook"/>
              </a:rPr>
              <a:t>Bringing together outcomes of past projects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0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Schoolbook"/>
              </a:rPr>
              <a:t>Recall, Game On, Goal Net, Goet, etc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entury Schoolbook"/>
              </a:rPr>
              <a:t>Exchange best practices with other stakeholder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entury Schoolbook"/>
              </a:rPr>
              <a:t>Online community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entury Schoolbook"/>
              </a:rPr>
              <a:t>Also transposed to mobile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2E4E9-7699-435B-BB58-36C4BE8BD4CF}" type="slidenum">
              <a:rPr b="1" lang="en-GB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ONLINE LEARNING COMMUNIT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600200"/>
            <a:ext cx="77868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Learning cours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Dedicated curriculu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</a:rPr>
              <a:t>Basic ICT skills learning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</a:rPr>
              <a:t>Different disabiliti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Dedicated cont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</a:rPr>
              <a:t>Customised to different end-user group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</a:rPr>
              <a:t>Different mod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Dedicated handbook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</a:rPr>
              <a:t>For tutors, family, friend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Supported with educational gam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</a:rPr>
              <a:t>Flash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</a:rPr>
              <a:t>Android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9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8DEB2-AFDF-49EC-A583-05853F4F1501}" type="slidenum">
              <a:rPr b="1" lang="en-GB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DEVELOPED USING OPEN SOURCE TECHNOLOGI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57200" y="1600200"/>
            <a:ext cx="77868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echnica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Portal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0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Schoolbook"/>
              </a:rPr>
              <a:t>WordPress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0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Schoolbook"/>
              </a:rPr>
              <a:t>BuddyPress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Mobil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0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Schoolbook"/>
              </a:rPr>
              <a:t>Android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Learning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0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Schoolbook"/>
              </a:rPr>
              <a:t>ATutor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Curriculum under creative common license schem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Content in different language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Use what we deliver and make it better!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95E27-7602-4202-A5D1-2A5D1D0DDF69}" type="slidenum">
              <a:rPr b="1" lang="en-GB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2" descr=""/>
          <p:cNvPicPr/>
          <p:nvPr/>
        </p:nvPicPr>
        <p:blipFill>
          <a:blip r:embed="rId1"/>
          <a:stretch/>
        </p:blipFill>
        <p:spPr>
          <a:xfrm>
            <a:off x="4211640" y="191628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3" descr=""/>
          <p:cNvPicPr/>
          <p:nvPr/>
        </p:nvPicPr>
        <p:blipFill>
          <a:blip r:embed="rId2"/>
          <a:stretch/>
        </p:blipFill>
        <p:spPr>
          <a:xfrm>
            <a:off x="6012000" y="2924280"/>
            <a:ext cx="2417760" cy="74124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4" descr=""/>
          <p:cNvPicPr/>
          <p:nvPr/>
        </p:nvPicPr>
        <p:blipFill>
          <a:blip r:embed="rId3"/>
          <a:stretch/>
        </p:blipFill>
        <p:spPr>
          <a:xfrm>
            <a:off x="5651640" y="1628640"/>
            <a:ext cx="1619280" cy="12114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6" descr=""/>
          <p:cNvPicPr/>
          <p:nvPr/>
        </p:nvPicPr>
        <p:blipFill>
          <a:blip r:embed="rId4"/>
          <a:stretch/>
        </p:blipFill>
        <p:spPr>
          <a:xfrm>
            <a:off x="7236000" y="2060640"/>
            <a:ext cx="1114200" cy="4762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7" descr=""/>
          <p:cNvPicPr/>
          <p:nvPr/>
        </p:nvPicPr>
        <p:blipFill>
          <a:blip r:embed="rId5"/>
          <a:stretch/>
        </p:blipFill>
        <p:spPr>
          <a:xfrm>
            <a:off x="6659640" y="5445000"/>
            <a:ext cx="780840" cy="7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MORE INFORMATION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Official web page: </a:t>
            </a:r>
            <a:r>
              <a:rPr b="1" lang="en-GB" sz="2400" spc="-1" strike="noStrike">
                <a:solidFill>
                  <a:srgbClr val="000000"/>
                </a:solidFill>
                <a:latin typeface="Century Schoolbook"/>
              </a:rPr>
              <a:t>www.vipi-project.eu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Twitter: </a:t>
            </a:r>
            <a:r>
              <a:rPr b="1" lang="en-GB" sz="2400" spc="-1" strike="noStrike">
                <a:solidFill>
                  <a:srgbClr val="000000"/>
                </a:solidFill>
                <a:latin typeface="Century Schoolbook"/>
              </a:rPr>
              <a:t>Twitter.com/ViPi_projec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FaceBook: </a:t>
            </a:r>
            <a:r>
              <a:rPr b="1" lang="en-GB" sz="2400" spc="-1" strike="noStrike">
                <a:solidFill>
                  <a:srgbClr val="000000"/>
                </a:solidFill>
                <a:latin typeface="Century Schoolbook"/>
              </a:rPr>
              <a:t>facebook.com/vipiprojec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entury Schoolbook"/>
              </a:rPr>
              <a:t>Contact u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PhoenixKM BVBA (Belgium) - </a:t>
            </a:r>
            <a:r>
              <a:rPr b="0" lang="en-GB" sz="20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karel@phoenixkm.eu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Steficon (Greece) - </a:t>
            </a:r>
            <a:r>
              <a:rPr b="0" lang="en-GB" sz="20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ptsoris@steficon.gr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Hypertech (Greece) - </a:t>
            </a:r>
            <a:r>
              <a:rPr b="0" lang="en-GB" sz="2000" spc="-1" strike="noStrike" u="sng">
                <a:solidFill>
                  <a:srgbClr val="d2611c"/>
                </a:solidFill>
                <a:uFillTx/>
                <a:latin typeface="Century Schoolbook"/>
                <a:hlinkClick r:id="rId3"/>
              </a:rPr>
              <a:t>k.petridis@trek.gr</a:t>
            </a: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DB2D0-4F39-4E15-BA0E-377C60C6D2C7}" type="slidenum">
              <a:rPr b="1" lang="en-GB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6T16:23:49Z</dcterms:created>
  <dc:creator>Karel Van Isacker</dc:creator>
  <dc:description/>
  <dc:language>en-US</dc:language>
  <cp:lastModifiedBy>Karel Van Isacker</cp:lastModifiedBy>
  <dcterms:modified xsi:type="dcterms:W3CDTF">2012-04-29T12:38:29Z</dcterms:modified>
  <cp:revision>25</cp:revision>
  <dc:subject>ViPi - Virtual Portal for Interaction and ICT Training for People with Disabilities</dc:subject>
  <dc:title>Slide template</dc:title>
</cp:coreProperties>
</file>