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F93DD-5307-4CB6-82CC-F8A13F49D2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g-BG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CD38C-02A6-47DC-9075-8FAAE379E5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3D735-5509-4FBB-8798-E432E2A89AC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g-BG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07D45-FB72-49DE-A6EA-C48C3EAFCD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g-BG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6B211-69F9-42E2-BE92-210576A273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g-BG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BCC1E-FA91-4500-9ED4-C6CF251578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g-BG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6FA28-5A51-479B-AD01-8A683A6A9E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g-BG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1AB58-B04F-42C3-87AC-456FBAA57F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F9811-8736-4906-908C-BD437CB249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D34C3-1E93-4EF7-94AB-D461876C9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5F225-0549-4482-87D6-716DA6AEF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0D711-1188-47FB-B238-7BF9A6196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9144D-F2A7-476F-BCFC-3E696806F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40DC7-6904-4E67-BE36-BAFADEB40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B0BB1-77B5-4611-A89C-420A85458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710BF-0A46-4627-95AD-08958948E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195D2-DE29-4973-825E-859DDF8D8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5963D-4D8A-4CBA-BC73-A502A7929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ECDD9-4A15-4E68-AA14-C5F5EBA88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95048-4A78-4E44-93DD-44E30DDB9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2DA21-76FF-44F4-BC95-DC6757F07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9C59B-B346-4983-9F2C-A6BA06743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C8638-287A-46BA-B9EA-F9DE1553C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6C612-E1EA-4663-96DC-52E24D502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EB6F9-A176-4911-B873-E2CEB189A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5A4FF-7860-42FC-B5B9-4CA93A7A8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DEFB001-FBC9-4362-BFEF-ECC3DAEC0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4F63A27-6B8D-42A1-B914-9C9F64AB1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DC58951-D01E-4D28-9128-087213035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F6A7FFE-C609-46CD-8CAC-22C42F2E1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D21F0C6-9072-4232-B1FA-2018A323F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53158-7B5B-470D-8780-1BC579956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456C6AE-7B3D-42B8-AA0E-081727304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2E3DEB4-98CF-49AD-8C2E-E096C6903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967CA76-F945-4796-8BEB-0E3C7C9BB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3D0A976-697A-4FBB-A34A-911F04A43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57477FC-A370-4761-9E0E-E4C5C35E1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2617B2D-E686-4DF4-9621-640B7DCBF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14F7973-9CD9-49E5-8AAC-9E16823E5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14EEA9-13C9-46BE-9E63-E38140661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A44D0F-223E-4A36-9031-869AA2209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60AE23-26CE-4178-B047-245497E1D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EBC42-C8F2-40D4-9BEE-8A56337C5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19AC04-193A-4882-B402-DE4A31DA4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467F68-57ED-44CD-BB18-C65C5A216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6CA2D9-70C3-442A-9BA7-6AD06969C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9A8EA2-6A63-488E-B303-742A381E8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12E6B3-BBCD-4568-82E4-C6F903A7C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8BB095-2FC3-4D2A-A9B1-241CDB261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D98E9C-4C0E-4C73-BBBB-FD8EFD4B9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137A4D-E80C-4E2C-9E28-79D912426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8280FE-CD4D-4CAC-A4D0-FF4DD7DB0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0B5EEE4-FAFA-442F-B877-503C87F82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0A93B-4487-44EE-851D-A534A8E95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E63D91C-1C8A-4FF2-8B40-7FC7E9F8B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52C2685-B0FF-4558-A6B0-AB9D1FDD3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31D957B-4220-4ADA-8D0E-F869ABB49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7583B3C-B106-488D-A17F-D6C6F68BF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D6A172F-7114-4EB4-A2E7-250D596F8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3E8A159-2AAD-4B8D-881D-DBBC48F2B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32EEC43-8610-4B84-8A49-43F1B6294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0DD2D3D-3952-4C0E-A798-FD7B5B720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E1487DB-F81A-44ED-8A0C-9FA9B428F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5D3260E-F5D4-4642-8E0E-AF0341BF9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CBC13-0C43-4607-A7AC-FBAC7C629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09CA993-6BDF-4456-8FA0-B4EB01E96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3D7E4AF-BC30-42B7-A5E6-1324146F8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9D468FC-087C-48C3-BD72-0E61D7F85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A8209D8-BCEE-440A-9140-B04F4655B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3965B32-1C03-42FA-9CC2-6330C68F6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E19B619-F930-48B3-9920-8AC3A74CB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D910DD2-899F-420D-9C6F-F8A74E980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059F98D-3534-461F-994C-80165B60C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2492EE9-3BD0-40B2-A61F-C37A20907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1F30310-9E3B-45FA-82CB-95BB757F0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2AA5E-AE3B-48F3-A752-0A749FE15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C668F96-2B03-4DE4-AE8B-A2F0B76D3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FB0574B-AB30-4E79-8A8D-15A5952FD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A6A5B95-C088-4384-9D35-CE9306ACC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DC5B4-1344-47C8-B4B9-15BCEFD34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3CA14-33F2-43A0-803F-29D144539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E0E95-6F3A-4C06-94CF-DC4A327EAC41}" type="datetime"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FCBAD-9ED6-4824-8018-DB9B79C9F149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traight Connector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" descr=""/>
          <p:cNvPicPr/>
          <p:nvPr/>
        </p:nvPicPr>
        <p:blipFill>
          <a:blip r:embed="rId2"/>
          <a:stretch/>
        </p:blipFill>
        <p:spPr>
          <a:xfrm>
            <a:off x="6659640" y="333360"/>
            <a:ext cx="1904760" cy="6955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" descr="C:\A-Projects\2011\ViPi\Deliverables\WP8\Logo\vipi_logo_def_CMYK_2-facebook.jpg"/>
          <p:cNvPicPr/>
          <p:nvPr/>
        </p:nvPicPr>
        <p:blipFill>
          <a:blip r:embed="rId3"/>
          <a:stretch/>
        </p:blipFill>
        <p:spPr>
          <a:xfrm>
            <a:off x="3203640" y="1052640"/>
            <a:ext cx="3848040" cy="384804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E91F3-D9E5-468A-BF10-DD7FFFFCB446}" type="datetime"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501E7-0A5B-41FF-A092-1181854162B8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2" descr=""/>
          <p:cNvPicPr/>
          <p:nvPr/>
        </p:nvPicPr>
        <p:blipFill>
          <a:blip r:embed="rId2"/>
          <a:stretch/>
        </p:blipFill>
        <p:spPr>
          <a:xfrm>
            <a:off x="146160" y="6408720"/>
            <a:ext cx="1041120" cy="379440"/>
          </a:xfrm>
          <a:prstGeom prst="rect">
            <a:avLst/>
          </a:prstGeom>
          <a:ln w="0">
            <a:noFill/>
          </a:ln>
        </p:spPr>
      </p:pic>
      <p:sp>
        <p:nvSpPr>
          <p:cNvPr id="113" name="Subtitle 2"/>
          <p:cNvSpPr/>
          <p:nvPr/>
        </p:nvSpPr>
        <p:spPr>
          <a:xfrm>
            <a:off x="1547640" y="6497640"/>
            <a:ext cx="61722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Schoolbook"/>
              </a:rPr>
              <a:t>National ViPi Workshop 02/05/2012, Vilnius, Lithuan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2" descr="C:\A-Projects\2011\ViPi\Deliverables\WP8\Logo\vipi_logo_def_CMYK_2-facebook.jpg"/>
          <p:cNvPicPr/>
          <p:nvPr/>
        </p:nvPicPr>
        <p:blipFill>
          <a:blip r:embed="rId3"/>
          <a:srcRect l="0" t="25147" r="0" b="26205"/>
          <a:stretch/>
        </p:blipFill>
        <p:spPr>
          <a:xfrm>
            <a:off x="7451640" y="476280"/>
            <a:ext cx="1220760" cy="59364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F0D98-A404-40F0-9223-0F22141ED236}" type="datetime"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0211C-AD15-43FF-ACB3-97F24A20FA47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Oval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Oval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Oval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Oval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Oval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traight Connector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4F040-B08C-4B90-9435-85624C8DC8B6}" type="datetime">
              <a:rPr b="0" lang="en-US" sz="1200" spc="-1" strike="noStrike">
                <a:solidFill>
                  <a:srgbClr val="fff39d"/>
                </a:solidFill>
                <a:latin typeface="Century Schoolbook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89A3F-4584-40C8-A99A-BDAA9311F937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Straight Connector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Straight Connector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Oval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30167-E70B-4555-B3B9-88E0C5FBBF6D}" type="datetime"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1E421-9F13-41D3-8E6E-98E37E863B31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l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Straight Connector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Straight Connector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Straight Connector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Straight Connector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1AA53-E188-4EA7-B6B7-DDE21FD8E113}" type="datetime"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914E1-2418-49E6-8161-3775801055B8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25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mailto:karel@phoenixkm.eu" TargetMode="External"/><Relationship Id="rId2" Type="http://schemas.openxmlformats.org/officeDocument/2006/relationships/hyperlink" Target="mailto:ptsoris@steficon.gr" TargetMode="External"/><Relationship Id="rId3" Type="http://schemas.openxmlformats.org/officeDocument/2006/relationships/hyperlink" Target="mailto:k.petridis@trek.gr" TargetMode="External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2268000" y="4005000"/>
            <a:ext cx="61722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700" spc="-1" strike="noStrike">
                <a:solidFill>
                  <a:srgbClr val="575f6d"/>
                </a:solidFill>
                <a:latin typeface="Century Schoolbook"/>
              </a:rPr>
              <a:t>VIPI - VIRTUAL PORTAL FOR INTERACTION AND ICT TRAINING FOR PEOPLE WITH DISABILITIES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2285640" y="5589720"/>
            <a:ext cx="6172200" cy="78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575f6d"/>
                </a:solidFill>
                <a:latin typeface="Century Schoolbook"/>
              </a:rPr>
              <a:t>National ViPi Workshop 02/05/2012, Vilnius, Lithuania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575f6d"/>
                </a:solidFill>
                <a:latin typeface="Century Schoolbook"/>
              </a:rPr>
              <a:t>www.vipi-project.eu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575f6d"/>
                </a:solidFill>
                <a:latin typeface="Century Schoolbook"/>
              </a:rPr>
              <a:t>511792-LLP-1-2010-1-GR-KA3-KA3NW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8" name="Slide Number Placeholder 6"/>
          <p:cNvSpPr/>
          <p:nvPr/>
        </p:nvSpPr>
        <p:spPr>
          <a:xfrm>
            <a:off x="132552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A18D3-D7EC-4834-BB4E-32333E4EA6F8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575f6d"/>
                </a:solidFill>
                <a:latin typeface="Century Schoolbook"/>
              </a:rPr>
              <a:t>VIPI PLATFORM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entury Schoolbook"/>
              </a:rPr>
              <a:t>A “one-stop-shop” interactive portal &amp; learning environment (online and via Android mobile phone) that delivers: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5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Schoolbook"/>
              </a:rPr>
              <a:t>a multilingual platform (English, Dutch, Greek, Lithuanian) with: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5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Schoolbook"/>
              </a:rPr>
              <a:t>an embedded social community (for VET centres, PwD, ICT training centres, etc.);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5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Schoolbook"/>
              </a:rPr>
              <a:t>accessible (WCAG 2.0) online ICT for learning environment for PwD, their trainers;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5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Schoolbook"/>
              </a:rPr>
              <a:t>with an interactive and vast repository of interoperable SCORM compliant learning objects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5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Schoolbook"/>
              </a:rPr>
              <a:t>supported by Web 2.0 social services, and Web 3.0 for semantically enriched content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entury Schoolbook"/>
              </a:rPr>
              <a:t>Bring together key stakeholders and gatekeepers (VET, target groups, umbrella organizations)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EB56B-BBAF-41AE-9A55-9A38ABA6BEFD}" type="slidenum">
              <a:rPr b="1" lang="en-GB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Picture 6" descr=""/>
          <p:cNvPicPr/>
          <p:nvPr/>
        </p:nvPicPr>
        <p:blipFill>
          <a:blip r:embed="rId1"/>
          <a:stretch/>
        </p:blipFill>
        <p:spPr>
          <a:xfrm>
            <a:off x="3708360" y="2924280"/>
            <a:ext cx="1655640" cy="1657080"/>
          </a:xfrm>
          <a:prstGeom prst="rect">
            <a:avLst/>
          </a:prstGeom>
          <a:ln w="0">
            <a:noFill/>
          </a:ln>
        </p:spPr>
      </p:pic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575f6d"/>
                </a:solidFill>
                <a:latin typeface="Century Schoolbook"/>
              </a:rPr>
              <a:t>TECHNICAL APPROACH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4" name="Slide Number Placeholder 4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90624-392E-4284-861E-0ED563E6433A}" type="slidenum">
              <a:rPr b="1" lang="en-GB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Picture 2" descr=""/>
          <p:cNvPicPr/>
          <p:nvPr/>
        </p:nvPicPr>
        <p:blipFill>
          <a:blip r:embed="rId2"/>
          <a:stretch/>
        </p:blipFill>
        <p:spPr>
          <a:xfrm>
            <a:off x="395280" y="1916280"/>
            <a:ext cx="2419200" cy="188568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3" descr=""/>
          <p:cNvPicPr/>
          <p:nvPr/>
        </p:nvPicPr>
        <p:blipFill>
          <a:blip r:embed="rId3"/>
          <a:stretch/>
        </p:blipFill>
        <p:spPr>
          <a:xfrm>
            <a:off x="5940360" y="1557360"/>
            <a:ext cx="2552760" cy="179064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4" descr=""/>
          <p:cNvPicPr/>
          <p:nvPr/>
        </p:nvPicPr>
        <p:blipFill>
          <a:blip r:embed="rId4"/>
          <a:stretch/>
        </p:blipFill>
        <p:spPr>
          <a:xfrm>
            <a:off x="3995640" y="4581360"/>
            <a:ext cx="2381400" cy="192420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7" descr=""/>
          <p:cNvPicPr/>
          <p:nvPr/>
        </p:nvPicPr>
        <p:blipFill>
          <a:blip r:embed="rId5"/>
          <a:stretch/>
        </p:blipFill>
        <p:spPr>
          <a:xfrm>
            <a:off x="5219640" y="2565360"/>
            <a:ext cx="739800" cy="73836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8" descr=""/>
          <p:cNvPicPr/>
          <p:nvPr/>
        </p:nvPicPr>
        <p:blipFill>
          <a:blip r:embed="rId6"/>
          <a:stretch/>
        </p:blipFill>
        <p:spPr>
          <a:xfrm>
            <a:off x="3419640" y="4653000"/>
            <a:ext cx="955440" cy="95580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9" descr=""/>
          <p:cNvPicPr/>
          <p:nvPr/>
        </p:nvPicPr>
        <p:blipFill>
          <a:blip r:embed="rId7"/>
          <a:stretch/>
        </p:blipFill>
        <p:spPr>
          <a:xfrm>
            <a:off x="3059280" y="1628640"/>
            <a:ext cx="1223640" cy="12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575f6d"/>
                </a:solidFill>
                <a:latin typeface="Century Schoolbook"/>
              </a:rPr>
              <a:t>MOBILE LEARNING AND INTERACTIO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457200" y="1600200"/>
            <a:ext cx="778680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entury Schoolbook"/>
              </a:rPr>
              <a:t>Mobile social media (Android)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76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entury Schoolbook"/>
              </a:rPr>
              <a:t>For beneficaries (PwD)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76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entury Schoolbook"/>
              </a:rPr>
              <a:t>For Learning Object providers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entury Schoolbook"/>
              </a:rPr>
              <a:t>Mobile games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76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entury Schoolbook"/>
              </a:rPr>
              <a:t>Basic ICT skills learning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76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entury Schoolbook"/>
              </a:rPr>
              <a:t>Educational gaming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76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entury Schoolbook"/>
              </a:rPr>
              <a:t>Learning basics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3" name="Slide Number Placeholder 4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8907A-3234-464D-8179-6839B87F9F7C}" type="slidenum">
              <a:rPr b="1" lang="en-GB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575f6d"/>
                </a:solidFill>
                <a:latin typeface="Century Schoolbook"/>
              </a:rPr>
              <a:t>ONLINE LO PORTAL AND COMMUNITY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457200" y="1600200"/>
            <a:ext cx="778680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entury Schoolbook"/>
              </a:rPr>
              <a:t>Get the right learning course for your pupils, yourself, your family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76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entury Schoolbook"/>
              </a:rPr>
              <a:t>Ontology based search engine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400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entury Schoolbook"/>
              </a:rPr>
              <a:t>Allows very targeted searching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400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entury Schoolbook"/>
              </a:rPr>
              <a:t>For who, for what, what mode, format, price (if any), language, etc.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76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entury Schoolbook"/>
              </a:rPr>
              <a:t>Repository of games, applications, etc. related to different kinds of disabilities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400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entury Schoolbook"/>
              </a:rPr>
              <a:t>Vision, hearing, speech, mobility, cognitive, etc.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76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entury Schoolbook"/>
              </a:rPr>
              <a:t>Bringing together outcomes of past projects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400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entury Schoolbook"/>
              </a:rPr>
              <a:t>Recall, Game On, Goal Net, Goet, etc.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entury Schoolbook"/>
              </a:rPr>
              <a:t>Exchange best practices with other stakeholders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76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entury Schoolbook"/>
              </a:rPr>
              <a:t>Online community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76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entury Schoolbook"/>
              </a:rPr>
              <a:t>Also transposed to mobile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6" name="Slide Number Placeholder 4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F53CD-3C29-4B62-A05D-105581084E06}" type="slidenum">
              <a:rPr b="1" lang="en-GB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575f6d"/>
                </a:solidFill>
                <a:latin typeface="Century Schoolbook"/>
              </a:rPr>
              <a:t>ONLINE LEARNING COMMUNITY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457200" y="1600200"/>
            <a:ext cx="778680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Learning course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Dedicated curriculum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Schoolbook"/>
              </a:rPr>
              <a:t>Basic ICT skills learning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Schoolbook"/>
              </a:rPr>
              <a:t>Different disabilities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Dedicated conten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Schoolbook"/>
              </a:rPr>
              <a:t>Customised to different end-user groups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Schoolbook"/>
              </a:rPr>
              <a:t>Different modes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Dedicated handbook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Schoolbook"/>
              </a:rPr>
              <a:t>For tutors, family, friends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Supported with educational gam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Schoolbook"/>
              </a:rPr>
              <a:t>Flash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Schoolbook"/>
              </a:rPr>
              <a:t>Android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9" name="Slide Number Placeholder 4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4E16B-0DB3-4F00-818A-424C1B871D74}" type="slidenum">
              <a:rPr b="1" lang="en-GB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575f6d"/>
                </a:solidFill>
                <a:latin typeface="Century Schoolbook"/>
              </a:rPr>
              <a:t>DEVELOPED USING OPEN SOURCE TECHNOLOGIE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457200" y="1600200"/>
            <a:ext cx="778680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Technical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entury Schoolbook"/>
              </a:rPr>
              <a:t>Portal: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400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entury Schoolbook"/>
              </a:rPr>
              <a:t>WordPress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400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entury Schoolbook"/>
              </a:rPr>
              <a:t>BuddyPress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entury Schoolbook"/>
              </a:rPr>
              <a:t>Mobile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400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entury Schoolbook"/>
              </a:rPr>
              <a:t>Android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entury Schoolbook"/>
              </a:rPr>
              <a:t>Learning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400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entury Schoolbook"/>
              </a:rPr>
              <a:t>ATutor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Curriculum under creative common license schema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entury Schoolbook"/>
              </a:rPr>
              <a:t>Content in different languages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entury Schoolbook"/>
              </a:rPr>
              <a:t>Use what we deliver and make it better!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Slide Number Placeholder 4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6884B-74D1-43C2-A630-9FD682B34472}" type="slidenum">
              <a:rPr b="1" lang="en-GB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Picture 2" descr=""/>
          <p:cNvPicPr/>
          <p:nvPr/>
        </p:nvPicPr>
        <p:blipFill>
          <a:blip r:embed="rId1"/>
          <a:stretch/>
        </p:blipFill>
        <p:spPr>
          <a:xfrm>
            <a:off x="4211640" y="1916280"/>
            <a:ext cx="1523880" cy="152388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3" descr=""/>
          <p:cNvPicPr/>
          <p:nvPr/>
        </p:nvPicPr>
        <p:blipFill>
          <a:blip r:embed="rId2"/>
          <a:stretch/>
        </p:blipFill>
        <p:spPr>
          <a:xfrm>
            <a:off x="6012000" y="2924280"/>
            <a:ext cx="2417760" cy="74124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4" descr=""/>
          <p:cNvPicPr/>
          <p:nvPr/>
        </p:nvPicPr>
        <p:blipFill>
          <a:blip r:embed="rId3"/>
          <a:stretch/>
        </p:blipFill>
        <p:spPr>
          <a:xfrm>
            <a:off x="5651640" y="1628640"/>
            <a:ext cx="1619280" cy="121140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6" descr=""/>
          <p:cNvPicPr/>
          <p:nvPr/>
        </p:nvPicPr>
        <p:blipFill>
          <a:blip r:embed="rId4"/>
          <a:stretch/>
        </p:blipFill>
        <p:spPr>
          <a:xfrm>
            <a:off x="7236000" y="2060640"/>
            <a:ext cx="1114200" cy="47628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7" descr=""/>
          <p:cNvPicPr/>
          <p:nvPr/>
        </p:nvPicPr>
        <p:blipFill>
          <a:blip r:embed="rId5"/>
          <a:stretch/>
        </p:blipFill>
        <p:spPr>
          <a:xfrm>
            <a:off x="6659640" y="5445000"/>
            <a:ext cx="780840" cy="7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575f6d"/>
                </a:solidFill>
                <a:latin typeface="Century Schoolbook"/>
              </a:rPr>
              <a:t>MORE INFORMATION: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Official web page: </a:t>
            </a:r>
            <a:r>
              <a:rPr b="1" lang="en-GB" sz="2400" spc="-1" strike="noStrike">
                <a:solidFill>
                  <a:srgbClr val="000000"/>
                </a:solidFill>
                <a:latin typeface="Century Schoolbook"/>
              </a:rPr>
              <a:t>www.vipi-project.eu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Twitter: </a:t>
            </a:r>
            <a:r>
              <a:rPr b="1" lang="en-GB" sz="2400" spc="-1" strike="noStrike">
                <a:solidFill>
                  <a:srgbClr val="000000"/>
                </a:solidFill>
                <a:latin typeface="Century Schoolbook"/>
              </a:rPr>
              <a:t>Twitter.com/ViPi_projec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FaceBook: </a:t>
            </a:r>
            <a:r>
              <a:rPr b="1" lang="en-GB" sz="2400" spc="-1" strike="noStrike">
                <a:solidFill>
                  <a:srgbClr val="000000"/>
                </a:solidFill>
                <a:latin typeface="Century Schoolbook"/>
              </a:rPr>
              <a:t>facebook.com/vipiprojec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entury Schoolbook"/>
              </a:rPr>
              <a:t>Contact us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entury Schoolbook"/>
              </a:rPr>
              <a:t>PhoenixKM BVBA (Belgium) - </a:t>
            </a:r>
            <a:r>
              <a:rPr b="0" lang="en-GB" sz="2000" spc="-1" strike="noStrike" u="sng">
                <a:solidFill>
                  <a:srgbClr val="d2611c"/>
                </a:solidFill>
                <a:uFillTx/>
                <a:latin typeface="Century Schoolbook"/>
                <a:hlinkClick r:id="rId1"/>
              </a:rPr>
              <a:t>karel@phoenixkm.eu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entury Schoolbook"/>
              </a:rPr>
              <a:t>Steficon (Greece) - </a:t>
            </a:r>
            <a:r>
              <a:rPr b="0" lang="en-GB" sz="2000" spc="-1" strike="noStrike" u="sng">
                <a:solidFill>
                  <a:srgbClr val="d2611c"/>
                </a:solidFill>
                <a:uFillTx/>
                <a:latin typeface="Century Schoolbook"/>
                <a:hlinkClick r:id="rId2"/>
              </a:rPr>
              <a:t>ptsoris@steficon.gr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entury Schoolbook"/>
              </a:rPr>
              <a:t>Hypertech (Greece) - </a:t>
            </a:r>
            <a:r>
              <a:rPr b="0" lang="en-GB" sz="2000" spc="-1" strike="noStrike" u="sng">
                <a:solidFill>
                  <a:srgbClr val="d2611c"/>
                </a:solidFill>
                <a:uFillTx/>
                <a:latin typeface="Century Schoolbook"/>
                <a:hlinkClick r:id="rId3"/>
              </a:rPr>
              <a:t>k.petridis@trek.gr</a:t>
            </a:r>
            <a:r>
              <a:rPr b="0" lang="en-GB" sz="20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FAABF-C2D9-49AE-B423-B241B4A0DB52}" type="slidenum">
              <a:rPr b="1" lang="en-GB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6T16:23:49Z</dcterms:created>
  <dc:creator>Karel Van Isacker</dc:creator>
  <dc:description/>
  <dc:language>en-US</dc:language>
  <cp:lastModifiedBy>Karel Van Isacker</cp:lastModifiedBy>
  <dcterms:modified xsi:type="dcterms:W3CDTF">2012-04-29T12:38:29Z</dcterms:modified>
  <cp:revision>25</cp:revision>
  <dc:subject>ViPi - Virtual Portal for Interaction and ICT Training for People with Disabilities</dc:subject>
  <dc:title>Slide template</dc:title>
</cp:coreProperties>
</file>