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65EC-2875-46C5-9733-C9E3502C6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8B8-EAA7-4AAA-9A1A-16E864082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45E4-AF8A-4E96-978A-1DD0C1F3D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80EB-57DE-4C8C-BB5E-915EADFB8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923-2612-4BD8-839F-6BE8D6B08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1A28-F450-486A-8F1D-5DFD2D2E8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0D0-9547-4A5F-B5D2-C9072B809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327A-5787-4E0C-B78C-BA6837234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9DD-243D-44E9-93DD-D91A8A732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A95-7780-46BC-9EF7-6B327E164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DDF6-E785-4063-A61C-9442E407B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232-2441-4271-9BF1-974B4E1D9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48C-FF9E-4196-BBFD-2936196FE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F08-31F9-4AF5-A4DE-2206DB666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6ED-3C5E-444B-B95C-9CEDFE261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517-554C-4824-8A26-6F628FBF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6CB-814E-4D77-B321-DD5EA3C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2AE-8A9A-4B48-9A92-707F3920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EDF-2E8A-44A5-8402-B36E7437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B21-B29B-47AD-AFD6-D0C7608B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F9B-2992-474D-9BD5-DC6EBC8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13C0-05AC-44F1-A118-07EC15F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CCEE-93A1-4973-A2FA-1C3B8085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41A-3DA6-4701-A5C4-FF046EAF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9A6-B1D8-481A-B4C3-77D110F2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0AA8-61AE-4403-80A0-669803B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BA1-90EF-4C45-9171-5644C20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FE7-EFCD-4B91-8B0F-582EAC8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672B-A2F0-46E5-876E-C0ABC1C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01F0-E97A-4981-B49A-24C0C613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508A-2417-4EA0-9C75-E3BC010A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2106-20EF-4332-82D8-9B593CB7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A857E-7BEC-4E83-8094-124320F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0F11C-7036-45E9-A02B-98CA493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7B835-BE4F-4B7D-B885-13A1EBC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A2D97-1191-453F-9A84-D453B331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B4671-F258-4699-9D33-132E856C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AE1-1017-4AC1-A4A9-67A9C41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080C2-2C27-4A1C-BE40-5C07653D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E524B-11A0-4067-BDF5-1124566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7463D-CC62-4472-9CE5-40D71F9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32030-0703-4C2D-87B8-3079228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DA161-3F5C-43C1-8357-E0F1D424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A0338-C81B-45A5-9949-DCEE4372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A4633-2212-44B3-A42F-DD4FD6B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D949-A5C7-4740-8422-122804C2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BFF2-98B7-43D2-818B-90554C0D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5F9D-2037-4A9D-B320-4CEF3A1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809-6BF1-4052-8E3E-F192810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73FD-C2A3-44BA-A3DE-E94099C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EDA8-8799-444A-BD51-3460AF16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3B02-E7EE-469F-A308-E78E7BC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0802-E68F-4BDD-B863-8AB13CB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E919-0A21-4B81-9950-C6E85EC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099D-EA36-4DF1-8E63-D3FBF10D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7B50-68D8-4AFC-8144-FB0624C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5BA6-8498-46CE-A041-72563332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3FD1-7A4E-4E21-B632-1680E90D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329DF-5717-492D-BECC-356C04B4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AFA-2A7A-4455-960D-04648D7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8001A-11CF-41C7-AF9F-A7E3D82D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47255-2ABC-48EA-AFB9-149600A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86E7A-5D3B-4948-8AF9-F9BFFFD3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4EFF1-2D0C-4C0F-B894-B2A936A8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02910-2ACA-4E3E-B316-0D97005A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18D71-A73E-4E99-8026-E8DA6BA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2B995-B109-40FC-BDDE-751BFD6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2B5ED-88E1-498A-9938-FC05904F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1780A-C45E-47AF-917E-139E678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A61CE-3C0F-46F9-BD3B-0F09217C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025-8513-4528-8371-5B59E449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12276-AC7D-4BC4-80D7-EB31EBBF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2DC92-386C-4680-9F70-BF1C00CC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2F06A-C279-4C38-8DE9-9C9B090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081B3-82A3-4AAC-A7BC-141ABCFD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E31E1-53CC-485B-BFCA-142587D0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711C3-FD28-4288-BABA-3A107B9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49C77-0599-4E74-B605-B48BF84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1E54A-5B04-4EF5-AB9D-BBBFB5D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68D73-898B-4C90-93B8-174DAB6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1E0A4-F71F-4D42-8540-910E90E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2C6-7BAF-46DC-9FF1-4D30166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FD63A-AE07-494F-B1CB-7EB4378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382F2-2F69-4C7A-9B71-C7180484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A3507-2B59-45F8-AB01-A2B943F1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DD2-80D0-4151-8E81-5A82B90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69E-6D6A-465F-A737-06B4EA8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4A30-56E0-4694-B08F-CE4F6F3C542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984-2E48-4B3A-94EF-5A39B65E67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904760" cy="6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A-Projects\2011\ViPi\Deliverables\WP8\Logo\vipi_logo_def_CMYK_2-facebook.jpg"/>
          <p:cNvPicPr/>
          <p:nvPr/>
        </p:nvPicPr>
        <p:blipFill>
          <a:blip r:embed="rId3"/>
          <a:stretch/>
        </p:blipFill>
        <p:spPr>
          <a:xfrm>
            <a:off x="3203640" y="105264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B1F-00D5-4D32-AC17-522A9C1E3DD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264-2614-4B29-9CD6-38D0EE04446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46160" y="6408720"/>
            <a:ext cx="1041120" cy="379440"/>
          </a:xfrm>
          <a:prstGeom prst="rect">
            <a:avLst/>
          </a:prstGeom>
          <a:ln w="0">
            <a:noFill/>
          </a:ln>
        </p:spPr>
      </p:pic>
      <p:sp>
        <p:nvSpPr>
          <p:cNvPr id="113" name="Subtitle 2"/>
          <p:cNvSpPr/>
          <p:nvPr/>
        </p:nvSpPr>
        <p:spPr>
          <a:xfrm>
            <a:off x="1547640" y="6497640"/>
            <a:ext cx="6172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-Projects\2011\ViPi\Deliverables\WP8\Logo\vipi_logo_def_CMYK_2-facebook.jpg"/>
          <p:cNvPicPr/>
          <p:nvPr/>
        </p:nvPicPr>
        <p:blipFill>
          <a:blip r:embed="rId3"/>
          <a:srcRect l="0" t="25147" r="0" b="26205"/>
          <a:stretch/>
        </p:blipFill>
        <p:spPr>
          <a:xfrm>
            <a:off x="7451640" y="476280"/>
            <a:ext cx="1220760" cy="593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0E7-945D-4919-BDE0-2BADE77E3E1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066D-0254-4CF7-BA87-E54FB1A73AD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8E7-0EED-4A0B-BBC2-F78DE6DCE28F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25C9-71EA-43C6-A9C3-A545656818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8D22-4894-4EB9-8BA6-3761A83EA6E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D0EA-CE05-4681-8755-95A4279089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4F4-A3EC-49F0-BFC6-6B5276ADE8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F16-C0BF-46B4-AF7D-8EB333543A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enixkm.eu/" TargetMode="External"/><Relationship Id="rId2" Type="http://schemas.openxmlformats.org/officeDocument/2006/relationships/hyperlink" Target="mailto:karel@phoenixkm.eu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cessible-project.eu/" TargetMode="External"/><Relationship Id="rId2" Type="http://schemas.openxmlformats.org/officeDocument/2006/relationships/hyperlink" Target="http://www.aegis-project.eu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000" y="4005000"/>
            <a:ext cx="6172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575f6d"/>
                </a:solidFill>
                <a:latin typeface="Century Schoolbook"/>
              </a:rPr>
              <a:t>VIPI - VIRTUAL PORTAL FOR INTERACTION AND ICT TRAINING FOR PEOPLE WITH DISABILITI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285640" y="5589720"/>
            <a:ext cx="6172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National ViPi Workshop 02/05/2012, Vilnius, Lithuani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www.vipi-project.eu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75f6d"/>
                </a:solidFill>
                <a:latin typeface="Century Schoolbook"/>
              </a:rPr>
              <a:t>511792-LLP-1-2010-1-GR-KA3-KA3NW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D1C-EB4A-42E1-82DB-648BABC51C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USER – IN GREE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497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dentified barriers in AT usag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4 in 10 PwD aware of AT solutions that meet their accessibility needs in using IC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1% of non-users of ICT with a disability believe that their disability prohibits them from using A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9% indicates that there is no AT adapted to their need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n-use of ICT attributed to lack of digital skills for 23% of non-users with a disabilit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45% of all participants with a disability believe that using ICT and AT requires a high level of digital ski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E5A-BAE6-4036-870E-E0858B62E01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Disability Now magazine cover"/>
          <p:cNvPicPr/>
          <p:nvPr/>
        </p:nvPicPr>
        <p:blipFill>
          <a:blip r:embed="rId1"/>
          <a:stretch/>
        </p:blipFill>
        <p:spPr>
          <a:xfrm>
            <a:off x="5867280" y="1773360"/>
            <a:ext cx="258768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INGS RECENT SURVEYS – SOON PUBL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ople with disabiliti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ktop application u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jority uses compu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ost use desktop (although laptop is increasing quickly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Proprietary: Mostly Windows XP followed by Vist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Non-proprietary: Ubuntu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inly used at home and to a lesser extent at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Lack of training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ost of comput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ost of AT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cessing specific softwar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63520" indent="-178560">
              <a:spcBef>
                <a:spcPts val="34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peech output, Braille displays and embossers, OCR, on-screen keyboard, integrated OS setting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BE3-2061-4ECD-9F07-73BEB5788C34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AEGIS logo"/>
          <p:cNvPicPr/>
          <p:nvPr/>
        </p:nvPicPr>
        <p:blipFill>
          <a:blip r:embed="rId1"/>
          <a:stretch/>
        </p:blipFill>
        <p:spPr>
          <a:xfrm>
            <a:off x="7236000" y="1876320"/>
            <a:ext cx="1481040" cy="14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ACCESSIBLE logo"/>
          <p:cNvPicPr/>
          <p:nvPr/>
        </p:nvPicPr>
        <p:blipFill>
          <a:blip r:embed="rId2"/>
          <a:stretch/>
        </p:blipFill>
        <p:spPr>
          <a:xfrm>
            <a:off x="7093080" y="1341360"/>
            <a:ext cx="161280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AIN AIMS VIP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 “one-stop-shop” interactive portal &amp; learning environment (online and via Android mobile phone) that deliver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 multilingual platform (English, Dutch, Greek, Lithuanian) with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n embedded social community (for VET centres, PwD, ICT training centres, etc.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ccessible (WCAG 2.0) online ICT for learning environment for PwD, their trainers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ith an interactive and vast repository of interoperable SCORM compliant learning obje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supported by Web 2.0 social services, and Web 3.0 for semantically enriched cont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ring together key stakeholders and gatekeepers (VET, target groups, umbrella organization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728B-88B9-4E8E-A21F-25A080923813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EXPECTED RESULTS -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tate of the art analysis on ICT skills LOs for people with disabilities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vailable online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Comparative analysis of  findings in UK, LT, GR &amp; CY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vailable online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 culturally adapted curriculum on ICT skills, tailored to individual user’s needs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Multilingual training materials in alternative formats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Trainer handbook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Fully accessible online ViPi platform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Serious games for desktop and mobile usage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 progress</a:t>
            </a: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Local training workshops – starts October 2012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DE2E-FE65-4CD0-8ABD-76B962F9A8D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MORE INFORMATION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fficial web page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vipi-project.e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witter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Twitter.com/ViPi_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ceBook: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www.facebook.com/vipiproj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Contact u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hoenixKM BVB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phoenixkm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/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karel@phoenixkm.e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DD5-75A1-40E0-B0BC-3E70DD2C8781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GENERAL INFORM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art: 01 January  2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nd: 31 December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uration: 36 mont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eople with disabilities (Pw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Trainers, VET centres, etc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inancial suppor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75% EU Grant from European Commission, Lifelong learning programme, Key Activity 3 I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C89-7C12-4327-BB92-A131163B8C3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ROJECT CONSORTIUM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508040"/>
            <a:ext cx="418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Nottingham Trent University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United Kingdom) – project contra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PhoenixKM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VBA</a:t>
            </a: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Belgium) – project coordina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Hypertech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S.A. Informatics &amp; New Technologies (Greec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Steficon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SA (Greec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VŠĮ HITECO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– High Technologies for Cooperation (Lithuani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G.M Eurocy Innovations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td (Cypru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01D9-75FC-4662-8AF4-0F71B96F9FC8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4805280" cy="470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>
            <a:off x="4605480" y="3429000"/>
            <a:ext cx="614160" cy="614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517680" cy="492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7236000" y="5516640"/>
            <a:ext cx="487080" cy="473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6227640" y="5013360"/>
            <a:ext cx="773280" cy="617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6"/>
          <a:srcRect l="34017" t="0" r="25749" b="22751"/>
          <a:stretch/>
        </p:blipFill>
        <p:spPr>
          <a:xfrm>
            <a:off x="6588000" y="306864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HE 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n estimated 45 million people in Europe have a long-standing health problem or disability (LSHPD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16% of men and women aged 16-64 in the EU as a whole (Source: 2002 EU Labour Force Survey (LFS) and the 2004 EU Statistics on Incomes and Living Conditions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Only 33% of these people are not restricted in the kind or amount of work they could do or their mobility to and from wor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Figures vary across EU members (10-50%), directly linked to the level of prosperity and the assistance availab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Of those, 68% are in employmen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While for the ones restricted, only 28% are in employ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DE1D-8AD3-4A5C-A3C4-CFED00B2303E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OME FA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CC4-D31D-489A-A759-0BFE01E8E60C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Disability percentages in Europe"/>
          <p:cNvPicPr/>
          <p:nvPr/>
        </p:nvPicPr>
        <p:blipFill>
          <a:blip r:embed="rId1"/>
          <a:stretch/>
        </p:blipFill>
        <p:spPr>
          <a:xfrm>
            <a:off x="0" y="1523880"/>
            <a:ext cx="8786880" cy="48578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5671800" y="1197000"/>
            <a:ext cx="30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gures are from 2001,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PI VI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CT provide alternative and creative solutions for the employment of Pw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PwD can benefit enormously from digital competen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re life and employability skills (see Lisbon Objectiv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Recent studies (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accessible-project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,  </a:t>
            </a:r>
            <a:r>
              <a:rPr b="0" lang="en-GB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aegis-project.eu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Main barrier is the lack of specific training support or material on ICT but also on using AT (ATLEC project outcom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ViPi project envisages fulfilling the gap by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ing available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accessible and flexible training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designed to be adopted directly by PwD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nd through centres providing special education and vocational train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7EE6-DEE0-405D-A486-4DE7C590A390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ICT AND PW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341360"/>
            <a:ext cx="814716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ICT can benefit people with disabilitie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t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Staying active and productive for long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Accessible Work environment (AT HW/SW)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Better quality of work and work-life balanc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In the Commun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Overcoming isolation &amp; lonelines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Keeping up social network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Accessing public servic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Better quality of life for longer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Independence, autonomy and dignit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On the Ro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Travel in accessible mann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Independently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3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Schoolbook"/>
              </a:rPr>
              <a:t>Multimoda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Source: Hüsing, T. (2004). ‘The impact of ICT on Social Cohesion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Schoolbook"/>
              </a:rPr>
              <a:t>Looking Beyond the Digital Divid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7415-D440-4900-9037-F92522243E4D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The circle is as follows: learning to use ICT pushes towards monitoring digital competences, which leads to emancipation and empowerment, and subsequent motivation to learn via ICT, and leads again to increased ICT learning."/>
          <p:cNvPicPr/>
          <p:nvPr/>
        </p:nvPicPr>
        <p:blipFill>
          <a:blip r:embed="rId1"/>
          <a:stretch/>
        </p:blipFill>
        <p:spPr>
          <a:xfrm>
            <a:off x="3625920" y="3084480"/>
            <a:ext cx="54831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VARIETY OF ACTORS WHO PARTICIPATE – DIRECTLY OR INDIRECTLY – IN THE AT ICT INDUSTRY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CF0-E583-482A-9E89-2CEC34C4FD8A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The variety of actors who participate – directly or indirectly – in the AT ICT industry"/>
          <p:cNvPicPr/>
          <p:nvPr/>
        </p:nvPicPr>
        <p:blipFill>
          <a:blip r:embed="rId1"/>
          <a:stretch/>
        </p:blipFill>
        <p:spPr>
          <a:xfrm>
            <a:off x="1001880" y="1155600"/>
            <a:ext cx="7273800" cy="45054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755640" y="5589720"/>
            <a:ext cx="759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Analysing and federating the European assistive technology ICT industry, Final Report,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AT INDUST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60020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ore drivers AT ICT indust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Knowledge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sabled end-use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Knowledge 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agnostician, prescriptor of product solution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Knowledge of 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ules and procedures of different national service provider system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in Europe, but also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eimbursement scheme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Flexibility in product desig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to be able to serve different geographical market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Barri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ck of knowledge by the marketplace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of types of solutions availabl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cost and time needed to navigate the d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ifferent national service provider system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in Europe in order to ensure complianc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different interpretation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of national service provider systems at the regional level (thereby fragmenting a national market into regional markets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ack of a coherent social policy for subsidising/reimbursing assistive technology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products and lack of coordina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ssistive technology ICT equipment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price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(i.e., which result in lower overall sales volume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659-ABE3-418A-BD02-F5FA373FA87F}" type="slidenum">
              <a:rPr b="1" lang="en-GB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23:49Z</dcterms:created>
  <dc:creator>Karel Van Isacker</dc:creator>
  <dc:description/>
  <dc:language>en-US</dc:language>
  <cp:lastModifiedBy>Karel Van Isacker</cp:lastModifiedBy>
  <dcterms:modified xsi:type="dcterms:W3CDTF">2012-04-29T12:16:04Z</dcterms:modified>
  <cp:revision>22</cp:revision>
  <dc:subject>ViPi - Virtual Portal for Interaction and ICT Training for People with Disabilities</dc:subject>
  <dc:title>Slide template</dc:title>
</cp:coreProperties>
</file>