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A76F-76C6-4FBE-8ED7-D7E1186B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6139-2C44-403E-A832-DB71AB16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E100-3444-4B59-B29F-5030E411F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B15-775C-43E0-A73C-F4687866A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C40-2F40-451E-A5D8-59E7EDE9F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574-0FCA-4EC5-85C6-688FF889D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009-73EB-405A-82C2-B7513E332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BC26-60EE-4904-9FD1-4AA7C1070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C35-28CC-4B5D-891A-0EAF07412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C0E-C819-4A8C-850F-65AE881F7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96E-2B8C-4904-8D92-4202DC73C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311-A84B-49EB-A120-D1C920B3D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5A7D-A38E-4C19-AADA-56C1A7E64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B093-2BB9-4185-A03D-370545385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C98-C947-4DFB-BF65-DE62F2598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B2C-1F0C-4997-AC04-A08F3179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668-BDE6-4E2D-A77F-AFB4909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D81-6569-4CBF-A6B8-1F080464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0A7-1F8A-438F-873B-F58B580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E39B-37EB-4DAF-82F2-1EEBA661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5347-4DF7-47F0-8988-1F8FD915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326-2369-4C23-8F89-54CA012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88B-CAF1-4A35-9AA5-0134FBAD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391B-BC73-4D23-8493-5062350F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8365-CAE7-45B9-9EA3-0C193486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5A90-F97F-4EB2-9E01-B14F33C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DE3-C067-46E5-A806-A7529137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FB4-C153-4091-9B75-E801F11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F95-58A8-49BD-BEBE-4C92B9C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0F3-8F72-4B99-9873-F7A0104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BCC3-542A-456E-9242-6CC4AEFB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F57-EA88-420A-9285-65E6712F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DDE8C-3B3C-48BE-A9CE-864E205F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66D44-19BE-4D61-8F46-534B615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DAC55-392B-47B3-B629-C59E08F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4ADCD-F76B-4F01-8C19-077A137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A9E67-0A5F-4EA3-A4E1-9DC1F9C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74A-A157-4007-9F8E-CE6FEC3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ADADB-8D70-430F-9CFF-F71F3AA9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1FC8E-870B-419C-8D73-0559517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9D0B3-673F-4BE5-BC23-48F3A08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25AA0-85CF-4564-B031-BF7F794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E18B5-BE84-42D4-99A0-498870E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A4BF6-4DB9-4262-AF82-DD59DD0B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64C86-35FF-430A-8313-F7617540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88BE-A113-4F00-A899-3D562A6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AE75-AAA4-437E-9A1E-9D1EAA81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08F9-95B5-4631-A809-427670B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EB5-C34B-419B-8967-F53C8550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D496-B112-4756-B555-6B70CFA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50C3-B7D5-4A48-86CD-70156449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FC7C-CE76-4116-84BF-38D91FC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CB09-4D3E-4E5D-8DF5-332D6F6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8720-A5E4-4DA5-92E9-D3798FA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24F8-5E35-4329-A614-1ADD935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92BB-E421-4E9C-96F1-9CF0FFB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1368-73A4-4078-B6C4-0C76858C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39FB-7DE2-4323-AABE-A8E6E8A2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29C95-BF28-4DFE-8745-71B0FC15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EC6-1C05-4164-86A4-20C6A1FE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B4475-B3CF-4F41-91CC-FA0E8A3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08201-3C6F-4F0A-ACF6-4B0BE6A8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14298-8A65-4A7E-A36F-F74BCCB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67B6D-7D08-43CA-B780-20C779AA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83B5E-FBD1-4B65-8264-A431433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A735F-0892-4F8A-A339-CFDFBD8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61D7D-2E78-4BAC-80C2-F896B83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EA895-12DC-46AE-8A6B-668C189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8AA51-99D9-442D-9CFE-61D6931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8683D-3D15-444D-887C-837B79EA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0E8-4107-4C7A-927F-BB428BE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16C40-DE6E-4F57-B18A-EA760732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68B45-07DB-4576-BF10-64B03870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31CDB-240D-4FFF-8CA9-F19443D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513F2-6826-4F32-B8B5-49D3C40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B1513-7F97-4793-954C-4325271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3676A-84FF-4577-8068-5D14E45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D5536-9464-42CC-AA96-E3CA52D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DF75F-D57F-4EE1-812F-B6B8E60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99959-CD45-4E10-8176-ABC897E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A5FBB-E1C7-4311-B0C6-C4C3AF2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A00-2A42-4D5C-BC5F-6EE9A75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75FBE-3898-44F5-A86A-048C83F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0B041-A03D-4F2F-B930-5576F718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5CF81-4848-42FC-BB74-C58CE9A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169-36B2-49A9-B974-6F8DCC8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AB9-A5FC-46AE-B4A2-9BEFAE3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9DB-97FE-4BD0-9207-C1E89E9872B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2FD1-1C51-4C11-BB78-A7E9E361B1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CDE-CDD7-431F-9845-D18B158C17B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944-A295-414C-89E6-A678B9457B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842-CC52-4E11-BC9E-9D1F0CA9495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14FC-8414-4B29-86DA-050D999312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B32C-C3C5-4C58-B848-2B472BBD5B00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BC8-49D7-4555-BD2B-CE65B73B66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751-379C-451A-A05D-B2E9E710C6C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5B8-7F6B-4CD5-A65A-A1A8D3892C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344-FAE8-4562-8949-F2E3EC6C947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420-72B9-4FD6-A87F-43AD372448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enixkm.eu/" TargetMode="External"/><Relationship Id="rId2" Type="http://schemas.openxmlformats.org/officeDocument/2006/relationships/hyperlink" Target="mailto:karel@phoenixkm.eu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cessible-project.eu/" TargetMode="External"/><Relationship Id="rId2" Type="http://schemas.openxmlformats.org/officeDocument/2006/relationships/hyperlink" Target="http://www.aegis-project.eu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575f6d"/>
                </a:solidFill>
                <a:latin typeface="Century Schoolbook"/>
              </a:rPr>
              <a:t>VIPI - VIRTUAL PORTAL FOR INTERACTION AND ICT TRAINING FOR PEOPLE WITH DISABILITI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5589720"/>
            <a:ext cx="6172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1ED-50FC-492D-8609-57523DDAA1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USER – IN GREE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497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dentified barriers in AT usag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4 in 10 PwD aware of AT solutions that meet their accessibility needs in using IC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1% of non-users of ICT with a disability believe that their disability prohibits them from using A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9% indicates that there is no AT adapted to their nee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n-use of ICT attributed to lack of digital skills for 23% of non-users with a disabilit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45% of all participants with a disability believe that using ICT and AT requires a high level of digital ski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35E-0698-43E3-9ED5-F349C90E2A9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Disability Now magazine cover"/>
          <p:cNvPicPr/>
          <p:nvPr/>
        </p:nvPicPr>
        <p:blipFill>
          <a:blip r:embed="rId1"/>
          <a:stretch/>
        </p:blipFill>
        <p:spPr>
          <a:xfrm>
            <a:off x="5867280" y="1773360"/>
            <a:ext cx="258768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INGS RECENT SURVEYS – SOON PUBL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ople with disabiliti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ktop application u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jority uses compu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ost use desktop (although laptop is increasing quickly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Proprietary: Mostly Windows XP followed by Vist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Non-proprietary: Ubuntu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inly used at home and to a lesser extent at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Lack of training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ost of comput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ost of AT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cessing specific softwar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peech output, Braille displays and embossers, OCR, on-screen keyboard, integrated OS setting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E20-411B-4279-B873-AEBFE6FF4EF5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AEGIS logo"/>
          <p:cNvPicPr/>
          <p:nvPr/>
        </p:nvPicPr>
        <p:blipFill>
          <a:blip r:embed="rId1"/>
          <a:stretch/>
        </p:blipFill>
        <p:spPr>
          <a:xfrm>
            <a:off x="7236000" y="1876320"/>
            <a:ext cx="1481040" cy="14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ACCESSIBLE logo"/>
          <p:cNvPicPr/>
          <p:nvPr/>
        </p:nvPicPr>
        <p:blipFill>
          <a:blip r:embed="rId2"/>
          <a:stretch/>
        </p:blipFill>
        <p:spPr>
          <a:xfrm>
            <a:off x="7093080" y="1341360"/>
            <a:ext cx="161280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IN AIMS VIP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 “one-stop-shop” interactive portal &amp; learning environment (online and via Android mobile phone) that deliver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 multilingual platform (English, Dutch, Greek, Lithuanian) with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 embedded social community (for VET centres, PwD, ICT training centres, etc.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ccessible (WCAG 2.0) online ICT for learning environment for PwD, their trainers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ith an interactive and vast repository of interoperable SCORM compliant learning obje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supported by Web 2.0 social services, and Web 3.0 for semantically enriched cont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ring together key stakeholders and gatekeepers (VET, target groups, umbrella organization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EF1-C7D2-41B0-B02C-5EDD425647A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EXPECTED RESULTS -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tate of the art analysis on ICT skills LOs for people with disabilities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vailable online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Comparative analysis of  findings in UK, LT, GR &amp; CY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vailable online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 culturally adapted curriculum on ICT skills, tailored to individual user’s needs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ultilingual training materials in alternative formats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rainer handbook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Fully accessible online ViPi platform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erious games for desktop and mobile usage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Local training workshops – starts October 2012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833-E61B-43B3-B424-2082DD3AEA43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RE INFORMATION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ficial web page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vipi-project.e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witter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Twitter.com/ViPi_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ceBook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facebook.com/vipi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Contact 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hoenixKM BVB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phoenixkm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/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karel@phoenixkm.e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261-E71D-41AC-8AA7-DE5896F48BA9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GENERAL INFORM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art: 01 January  2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nd: 31 December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uration: 36 mont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eople with disabilities (Pw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Trainers, VET centre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nancial suppor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75% EU Grant from European Commission, Lifelong learning programme, Key Activity 3 I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E49-FFE1-42B8-BBC0-C5659099E71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ROJECT CONSORTIUM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508040"/>
            <a:ext cx="418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Nottingham Trent University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United Kingdom) – project contra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PhoenixKM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VBA</a:t>
            </a: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Belgium) – project coordina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Hypertech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S.A. Informatics &amp; New Technologies (Greec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Steficon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SA (Greec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VŠĮ HITECO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– High Technologies for Cooperation (Lithuani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G.M Eurocy Innovations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td (Cypru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A705-75F5-4D74-84B4-B57442E49714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4805280" cy="470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>
            <a:off x="4605480" y="34290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517680" cy="492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7236000" y="5516640"/>
            <a:ext cx="487080" cy="473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6227640" y="5013360"/>
            <a:ext cx="773280" cy="617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6"/>
          <a:srcRect l="34017" t="0" r="25749" b="22751"/>
          <a:stretch/>
        </p:blipFill>
        <p:spPr>
          <a:xfrm>
            <a:off x="6588000" y="306864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n estimated 45 million people in Europe have a long-standing health problem or disability (LSHPD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16% of men and women aged 16-64 in the EU as a whole (Source: 2002 EU Labour Force Survey (LFS) and the 2004 EU Statistics on Incomes and Living Conditions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Only 33% of these people are not restricted in the kind or amount of work they could do or their mobility to and from wor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igures vary across EU members (10-50%), directly linked to the level of prosperity and the assistance availab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Of those, 68% are in employmen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While for the ones restricted, only 28% are in employ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ECB-E2DF-4D8A-8A63-65825F64ECF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OME FA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6C7-F141-48F5-8DFF-872BEEAB8F4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Disability percentages in Europe"/>
          <p:cNvPicPr/>
          <p:nvPr/>
        </p:nvPicPr>
        <p:blipFill>
          <a:blip r:embed="rId1"/>
          <a:stretch/>
        </p:blipFill>
        <p:spPr>
          <a:xfrm>
            <a:off x="0" y="1523880"/>
            <a:ext cx="8786880" cy="48578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5671800" y="1197000"/>
            <a:ext cx="30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gures are from 2001,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PI VI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CT provide alternative and creative solutions for the employment of Pw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wD can benefit enormously from digital competen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re life and employability skills (see Lisbon Objectiv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Recent studies (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accessible-project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, 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aegis-project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Main barrier is the lack of specific training support or material on ICT but also on using AT (ATLEC project outcom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ViPi project envisages fulfilling the gap by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ing available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accessible and flexible training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designed to be adopted directly by PwD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nd through centres providing special education and vocational train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C444-D74D-4662-A346-337608456CEB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CT AND PW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341360"/>
            <a:ext cx="814716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CT can benefit people with disabilitie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t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Staying active and productive for long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Accessible Work environment (AT HW/SW)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Better quality of work and work-life balanc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In the Co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Overcoming isolation &amp; lonelines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Keeping up social network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Accessing public servic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Better quality of life for longer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Independence, autonomy and dignit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On the Ro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Travel in accessible mann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Independently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Multimoda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Source: Hüsing, T. (2004). ‘The impact of ICT on Social Cohesion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Looking Beyond the Digital Divid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E5DA-4152-430B-B3D5-49BB64C356CE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The circle is as follows: learning to use ICT pushes towards monitoring digital competences, which leads to emancipation and empowerment, and subsequent motivation to learn via ICT, and leads again to increased ICT learning."/>
          <p:cNvPicPr/>
          <p:nvPr/>
        </p:nvPicPr>
        <p:blipFill>
          <a:blip r:embed="rId1"/>
          <a:stretch/>
        </p:blipFill>
        <p:spPr>
          <a:xfrm>
            <a:off x="3625920" y="3084480"/>
            <a:ext cx="54831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VARIETY OF ACTORS WHO PARTICIPATE – DIRECTLY OR INDIRECTLY – IN THE AT ICT INDUSTRY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B56C-D0E1-4741-99DF-56151947F7B6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The variety of actors who participate – directly or indirectly – in the AT ICT industry"/>
          <p:cNvPicPr/>
          <p:nvPr/>
        </p:nvPicPr>
        <p:blipFill>
          <a:blip r:embed="rId1"/>
          <a:stretch/>
        </p:blipFill>
        <p:spPr>
          <a:xfrm>
            <a:off x="1001880" y="1155600"/>
            <a:ext cx="7273800" cy="45054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755640" y="5589720"/>
            <a:ext cx="759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Analysing and federating the European assistive technology ICT industry, Final Report,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AT INDUST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60020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re drivers AT ICT indust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Knowledge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sabled end-use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Knowledge 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agnostician, prescriptor of product solution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Knowledge 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ules and procedures of different national service provider system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in Europe, but also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eimbursement scheme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Flexibility in product desig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to be able to serve different geographical market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arri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ck of knowledge by the marketplace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of types of solutions availabl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cost and time needed to navigate the d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ifferent national service provider system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in Europe in order to ensure complianc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fferent interpretation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of national service provider systems at the regional level (thereby fragmenting a national market into regional markets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ck of a coherent social policy for subsidising/reimbursing assistive technology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products and lack of coordina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ssistive technology ICT equipment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price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(i.e., which result in lower overall sales volume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AD18-C4DB-4171-BBD7-6E20684633B3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Karel Van Isacker</cp:lastModifiedBy>
  <dcterms:modified xsi:type="dcterms:W3CDTF">2012-04-29T12:16:04Z</dcterms:modified>
  <cp:revision>22</cp:revision>
  <dc:subject>ViPi - Virtual Portal for Interaction and ICT Training for People with Disabilities</dc:subject>
  <dc:title>Slide template</dc:title>
</cp:coreProperties>
</file>